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F02C-8A49-4A8A-8D6A-9B610695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A34E-7ECF-4093-8367-3896C754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1C78-F3D2-44D2-9078-16660D73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6393-E84E-4140-93FF-D135BBFD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6F2D-B61D-4785-A9E2-86BB2C05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284C-FFF6-4FE4-A367-0143897F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CFA7-D2C6-484E-99F6-83D5051A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B335-6108-4144-97FE-768960CE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D974-6BDE-4FDD-81D9-9BFC4673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4835-0841-4CBC-ADD3-3903D70A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3EC2-5FD3-4A40-80C3-D7E81A17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15D9-2697-44E9-B0D8-D69EDD7C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912F-222F-4017-A471-AE653531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5B1D-858B-4A91-B998-1441C2E3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320C-5079-47F8-9EEB-FD3CD3BF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CBAB-4405-4C49-8DC9-35C8892B6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8DEF-456B-4D5F-9601-D48BA90F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FEC5-CE31-4FE6-8759-51E36452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622F-D0E0-4C85-8D7F-607FEC6B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A5FE-7EEE-4F3D-BF05-633C2F55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B064-2080-4E0E-B8F4-03A61FAB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05E8-971B-487A-9046-52A756AB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DA23-5032-4EFC-A91D-2C91559E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2A06-33FA-4941-BF1F-5203A9A6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37C0-EEBD-49AF-BFAE-FFB9A1CB852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30B5-4A6D-41E1-8718-4B94C8D87A4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1085760" y="396720"/>
            <a:ext cx="7783560" cy="1505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0560" y="191628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«Схематический рисунок как средство закрепления знаний на занятиях у детей старшего дошкольного возраста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(на примере образовательной области «Безопасность»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Фефилова О.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воспитатель СП «Детский сад №66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Карпогорская СОШ № 118»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DSC_0008.JPG"/>
          <p:cNvPicPr/>
          <p:nvPr/>
        </p:nvPicPr>
        <p:blipFill>
          <a:blip r:embed="rId1"/>
          <a:stretch/>
        </p:blipFill>
        <p:spPr>
          <a:xfrm>
            <a:off x="179280" y="836640"/>
            <a:ext cx="8820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DSC_0009.JPG"/>
          <p:cNvPicPr/>
          <p:nvPr/>
        </p:nvPicPr>
        <p:blipFill>
          <a:blip r:embed="rId1"/>
          <a:stretch/>
        </p:blipFill>
        <p:spPr>
          <a:xfrm>
            <a:off x="179280" y="907920"/>
            <a:ext cx="874872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DSC_0010.JPG"/>
          <p:cNvPicPr/>
          <p:nvPr/>
        </p:nvPicPr>
        <p:blipFill>
          <a:blip r:embed="rId1"/>
          <a:stretch/>
        </p:blipFill>
        <p:spPr>
          <a:xfrm>
            <a:off x="250920" y="907920"/>
            <a:ext cx="864216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9280" y="1267920"/>
            <a:ext cx="770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Диаграмма 4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1692360" y="404640"/>
            <a:ext cx="597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Распределение детей по уровням воспроизведения знаний полученных на занятии в 1 и 2 части эксперимента (ЭГ – группа Б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ывод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Результаты второй части эксперимента свидетельствуют о том, что схематический рисунок можно применять на занятиях как средство закрепления знаний у детей старшего дошкольного возраста при следующих условиях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обучения детей фиксировать информацию в схематическом рисунке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упражнения детей в применении схематического рисунка для закрепления и воспроизведения знаний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включения схематического рисунка в заключительную часть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занятия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Схематический рисунок является достаточно эффективным средством закрепления знаний детей на занятиях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тоговый этап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Выступление на педсовете по обмену опытом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Использование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схематического  рисунка для  закрепления знаний на занятиях у детей старшего дошкольного возраст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Доклад   на научно – практической конференции в С(А)ФУ г. Северодвинск с темой «Схематический рисунок как средство закрепления знаний на занятиях у детей старшего дошкольного возраста (на примере образовательной области «Безопасность»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0720" y="1981080"/>
            <a:ext cx="83217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360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КТУАЛЬНОСТЬ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4000" y="134100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Актуальность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выбранной темы определяется тем, что  на данный момент использование схематического рисунка изучалось как средство запоминания в лабораторных условиях и в работе по коррекции памяти, но не изучалось  как средство закрепления знаний на занятиях.  Обучение детей фиксировать предметы с помощью схематического рисунка  облегчит и ускорит процесс запоминания и усвоение материала. Применяя схематический рисунок, дети научатся  планировать высказыв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916280"/>
            <a:ext cx="81360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изучение возможностей использования схематического рисунка как средства закрепления знаний на занятиях у детей  старшего дошкольного возраст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Ч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психолого – педагогическую литературу по данной тем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ыявить особенности  применения педагогами ДОУ средств закрепления знаний на занятиях при освоении образовательной области «Безопасность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работать и апробировать методику обучения детей старшего дошкольного возраста  использованию схематического рисунка как средства закрепления знаний на занятия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верить эффективность использования схематического рисунка как средства закрепления знаний детей старшего дошкольного возраста на занятиях при освоении образовательной области «Безопасность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ЭТАП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АБОТЫ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9280" y="907920"/>
            <a:ext cx="82090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 подготовительный этап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ещение библиотек, педагогических сайтов в интернете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бор и изучение научно – методической литературы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комство с работами других педагог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й этап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ыявление особенностей и оценка эффективности применения педагогами ДОУ средств закрепления знаний детей на занятиях при освоении образовательной области «Безопасность»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 - разработка и апробация методики обучения детей старшего дошкольного возраста  использованию схематического рисунка как средства закрепления знаний на занятиях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проверка эффективности использования схематического рисунка как средства закрепления знаний детей старшего дошкольного возраста на занятиях при освоении образовательной области «Безопасность»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й этап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ступление на педсовете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клад на научно – практической конференции в С(А)ФУ г. Северодвинск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ктический этап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560" y="1196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Задачи 1 части этапа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Изучить  и проанализировать опыт работы педагогов ДОУ по использованию средств закрепления знаний на занятиях на примере образовательной области «Безопасность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ценить эффективность применения  педагогами средств закрепления знан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ктический этап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Задачи 2 части этап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азработать и апробировать методику применения схематического рисунка с целью закрепления знаний детей, включающую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) обучение детей фиксировать информацию в схематическом рисунк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) упражнение детей в применении схематического рисунка для закрепления и воспроизведения зна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) включение схематического рисунка в заключительную часть занят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5"/>
          <p:cNvSpPr/>
          <p:nvPr/>
        </p:nvSpPr>
        <p:spPr>
          <a:xfrm>
            <a:off x="468360" y="1557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1" name="Содержимое 7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8"/>
          <p:cNvSpPr/>
          <p:nvPr/>
        </p:nvSpPr>
        <p:spPr>
          <a:xfrm>
            <a:off x="900000" y="836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Уровни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воспроизведения знаний полученны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на занят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DSC_0007.JPG"/>
          <p:cNvPicPr/>
          <p:nvPr/>
        </p:nvPicPr>
        <p:blipFill>
          <a:blip r:embed="rId1"/>
          <a:stretch/>
        </p:blipFill>
        <p:spPr>
          <a:xfrm>
            <a:off x="179280" y="836640"/>
            <a:ext cx="8820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08:04:26Z</dcterms:created>
  <dc:creator>михаил</dc:creator>
  <dc:description/>
  <dc:language>en-US</dc:language>
  <cp:lastModifiedBy>Учитель</cp:lastModifiedBy>
  <dcterms:modified xsi:type="dcterms:W3CDTF">2014-04-15T05:27:51Z</dcterms:modified>
  <cp:revision>46</cp:revision>
  <dc:subject/>
  <dc:title>ТЕМА</dc:title>
</cp:coreProperties>
</file>