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A213-2EDE-4613-BC52-B11F27432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EA22-328B-4F33-806B-85BAF32E4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2214-C570-4D46-935E-8EB95F228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0431-CF63-4B45-9A18-9E5A6FDFD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EA25D-B56A-4850-951F-AF99B37F8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CBE8E-E3EC-4AEE-9EC4-5FC655626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34228-FBD5-4D75-95D1-78083577A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CD56E-1525-4C5C-B738-34B5E2207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B7A28-D47F-434D-B93D-D5C2BEA47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D4E17-3074-4C89-8F91-D1B4A4B44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E4E27-0B71-42D7-9057-468E8203F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A985-AA3F-4D43-8D51-370270A55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4487A-D76E-40E8-B3BD-6D34FD10C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A9E11-96F4-487E-A269-47908A28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F19D6-F6E4-447A-86B1-208831B04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FD85A-C1EA-456B-AF32-CAE2F4E26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A50C0-9BA2-465A-BE8B-FD47BF9C1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230B-F9AF-4F31-B13D-725D45338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A98F-F403-4C36-9DD5-D00D357A8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6CDD-A52F-47D6-90B9-7D0FA49B3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FF77-5C24-46B0-9D10-262B5C7F1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EBAB-BF88-489C-B5D6-5E517C720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8885-60CC-43E6-9F6C-468C6695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0CF1-D879-4C5C-8F29-F5DFA4E6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10CBC-7AA2-40A5-841D-75C233CD799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73AE9-D36E-46F1-941E-657F114E2C1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1085760" y="396720"/>
            <a:ext cx="7783560" cy="1505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50560" y="1916280"/>
            <a:ext cx="85690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«Схематический рисунок как средство закрепления знаний на занятиях у детей старшего дошкольного возраста»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(на примере образовательной области «Безопасность»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nstanti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 Фефилова О.В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ший воспитатель СП «Детский сад №66»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Карпогорская СОШ № 118»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1" descr="DSC_0008.JPG"/>
          <p:cNvPicPr/>
          <p:nvPr/>
        </p:nvPicPr>
        <p:blipFill>
          <a:blip r:embed="rId1"/>
          <a:stretch/>
        </p:blipFill>
        <p:spPr>
          <a:xfrm>
            <a:off x="179280" y="836640"/>
            <a:ext cx="882036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Рисунок 1" descr="DSC_0009.JPG"/>
          <p:cNvPicPr/>
          <p:nvPr/>
        </p:nvPicPr>
        <p:blipFill>
          <a:blip r:embed="rId1"/>
          <a:stretch/>
        </p:blipFill>
        <p:spPr>
          <a:xfrm>
            <a:off x="179280" y="907920"/>
            <a:ext cx="8748720" cy="58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Рисунок 1" descr="DSC_0010.JPG"/>
          <p:cNvPicPr/>
          <p:nvPr/>
        </p:nvPicPr>
        <p:blipFill>
          <a:blip r:embed="rId1"/>
          <a:stretch/>
        </p:blipFill>
        <p:spPr>
          <a:xfrm>
            <a:off x="250920" y="907920"/>
            <a:ext cx="8642160" cy="57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9280" y="1267920"/>
            <a:ext cx="77043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9" name="Диаграмма 4" descr=""/>
          <p:cNvPicPr/>
          <p:nvPr/>
        </p:nvPicPr>
        <p:blipFill>
          <a:blip r:embed="rId1"/>
          <a:stretch/>
        </p:blipFill>
        <p:spPr>
          <a:xfrm>
            <a:off x="1523880" y="1397160"/>
            <a:ext cx="6096240" cy="4063680"/>
          </a:xfrm>
          <a:prstGeom prst="rect">
            <a:avLst/>
          </a:prstGeom>
          <a:ln w="0">
            <a:noFill/>
          </a:ln>
        </p:spPr>
      </p:pic>
      <p:sp>
        <p:nvSpPr>
          <p:cNvPr id="120" name="TextBox 5"/>
          <p:cNvSpPr/>
          <p:nvPr/>
        </p:nvSpPr>
        <p:spPr>
          <a:xfrm>
            <a:off x="1692360" y="404640"/>
            <a:ext cx="597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Распределение детей по уровням воспроизведения знаний полученных на занятии в 1 и 2 части эксперимента (ЭГ – группа Б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Вывод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Результаты второй части эксперимента свидетельствуют о том, что схематический рисунок можно применять на занятиях как средство закрепления знаний у детей старшего дошкольного возраста при следующих условиях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- обучения детей фиксировать информацию в схематическом рисунке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- упражнения детей в применении схематического рисунка для закрепления и воспроизведения знаний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- включения схематического рисунка в заключительную часть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занятия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Схематический рисунок является достаточно эффективным средством закрепления знаний детей на занятиях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Итоговый этап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Выступление на педсовете по обмену опытом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«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Использование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схематического  рисунка для  закрепления знаний на занятиях у детей старшего дошкольного возраста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Доклад   на научно – практической конференции в С(А)ФУ г. Северодвинск с темой «Схематический рисунок как средство закрепления знаний на занятиях у детей старшего дошкольного возраста (на примере образовательной области «Безопасность»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Заголовок 1" descr=""/>
          <p:cNvPicPr/>
          <p:nvPr/>
        </p:nvPicPr>
        <p:blipFill>
          <a:blip r:embed="rId1"/>
          <a:stretch/>
        </p:blipFill>
        <p:spPr>
          <a:xfrm>
            <a:off x="450720" y="1981080"/>
            <a:ext cx="832176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1360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АКТУАЛЬНОСТЬ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24000" y="1341000"/>
            <a:ext cx="8640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Актуальность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выбранной темы определяется тем, что  на данный момент использование схематического рисунка изучалось как средство запоминания в лабораторных условиях и в работе по коррекции памяти, но не изучалось  как средство закрепления знаний на занятиях.  Обучение детей фиксировать предметы с помощью схематического рисунка  облегчит и ускорит процесс запоминания и усвоение материала. Применяя схематический рисунок, дети научатся  планировать высказывани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ЦЕЛЬ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1916280"/>
            <a:ext cx="81360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изучение возможностей использования схематического рисунка как средства закрепления знаний на занятиях у детей  старшего дошкольного возраста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ЗАДАЧИ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психолого – педагогическую литературу по данной тем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ыявить особенности  применения педагогами ДОУ средств закрепления знаний на занятиях при освоении образовательной области «Безопасность»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Разработать и апробировать методику обучения детей старшего дошкольного возраста  использованию схематического рисунка как средства закрепления знаний на занятиях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оверить эффективность использования схематического рисунка как средства закрепления знаний детей старшего дошкольного возраста на занятиях при освоении образовательной области «Безопасность»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42472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ЭТАПЫ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РАБОТЫ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9280" y="907920"/>
            <a:ext cx="820908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о подготовительный этап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сещение библиотек, педагогических сайтов в интернете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дбор и изучение научно – методической литературы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накомство с работами других педагогов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еский этап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выявление особенностей и оценка эффективности применения педагогами ДОУ средств закрепления знаний детей на занятиях при освоении образовательной области «Безопасность»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.  - разработка и апробация методики обучения детей старшего дошкольного возраста  использованию схематического рисунка как средства закрепления знаний на занятиях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 проверка эффективности использования схематического рисунка как средства закрепления знаний детей старшего дошкольного возраста на занятиях при освоении образовательной области «Безопасность»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оговый этап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ступление на педсовете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оклад на научно – практической конференции в С(А)ФУ г. Северодвинск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актический этап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50560" y="1196640"/>
            <a:ext cx="87138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Задачи 1 части этапа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Изучить  и проанализировать опыт работы педагогов ДОУ по использованию средств закрепления знаний на занятиях на примере образовательной области «Безопасность»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Оценить эффективность применения  педагогами средств закрепления знаний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актический этап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Задачи 2 части этап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Разработать и апробировать методику применения схематического рисунка с целью закрепления знаний детей, включающую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) обучение детей фиксировать информацию в схематическом рисунк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) упражнение детей в применении схематического рисунка для закрепления и воспроизведения знаний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3) включение схематического рисунка в заключительную часть занятия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5"/>
          <p:cNvSpPr/>
          <p:nvPr/>
        </p:nvSpPr>
        <p:spPr>
          <a:xfrm>
            <a:off x="468360" y="1557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11" name="Содержимое 7" descr=""/>
          <p:cNvPicPr/>
          <p:nvPr/>
        </p:nvPicPr>
        <p:blipFill>
          <a:blip r:embed="rId1"/>
          <a:stretch/>
        </p:blipFill>
        <p:spPr>
          <a:xfrm>
            <a:off x="457200" y="1935000"/>
            <a:ext cx="8229600" cy="438948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8"/>
          <p:cNvSpPr/>
          <p:nvPr/>
        </p:nvSpPr>
        <p:spPr>
          <a:xfrm>
            <a:off x="900000" y="83664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Уровни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воспроизведения знаний полученных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на заняти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1" descr="DSC_0007.JPG"/>
          <p:cNvPicPr/>
          <p:nvPr/>
        </p:nvPicPr>
        <p:blipFill>
          <a:blip r:embed="rId1"/>
          <a:stretch/>
        </p:blipFill>
        <p:spPr>
          <a:xfrm>
            <a:off x="179280" y="836640"/>
            <a:ext cx="882036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7T08:04:26Z</dcterms:created>
  <dc:creator>михаил</dc:creator>
  <dc:description/>
  <dc:language>en-US</dc:language>
  <cp:lastModifiedBy>Учитель</cp:lastModifiedBy>
  <dcterms:modified xsi:type="dcterms:W3CDTF">2014-04-15T05:27:51Z</dcterms:modified>
  <cp:revision>46</cp:revision>
  <dc:subject/>
  <dc:title>ТЕМА</dc:title>
</cp:coreProperties>
</file>