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0A6A-F774-456F-9D33-84309A1E3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2368-43A8-423D-8AB2-634E9A917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DFC5-9344-488B-80F5-4181E8E9D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BBC2-D84D-4547-8424-DFC89803F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D41EF-8E31-48F1-8CD9-BA34F4591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4DEF8-9D8A-423F-A7A1-40CE75583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DB783-CB2F-426E-B8D4-60033B9F5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4B591-D051-4009-9ACF-5DAD664AF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97AA7-AEBB-4290-88BE-580318D8A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F9600-E870-412B-8CAA-A4505203E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8928D-7D01-47E6-829E-1270EE15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A3D2-03BC-4729-ADEE-49B3788A0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AC428-7924-4EBF-86B6-36C76A09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4B6B0-796B-4272-A04A-D85DFBD4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C8CB2-E19A-4CC3-B259-7AA1D4BD6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E9720-10E4-465B-9503-A77A28D4F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51838-3F2E-42B5-AA27-33BC01A7B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F3B3-E9EB-4680-A25D-C0BFBC151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1C75-0D27-4DF2-9235-E5C27F73C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D9C4-B1DC-4742-A5FB-006822D8B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D6F3-F410-4CB2-9DBF-03B526E39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2382-B037-44E4-9E15-F02B69E6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5125-0735-4B53-8F33-E3CF7C94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AA3C-6A4A-4A26-A22F-0D368052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10A3E-5123-4A6D-A00E-9DC17A53921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00D94-7027-47B5-8466-5E19D8020B9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1085760" y="396720"/>
            <a:ext cx="7783560" cy="1505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50560" y="1916280"/>
            <a:ext cx="85690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«Схематический рисунок как средство закрепления знаний на занятиях у детей старшего дошкольного возраста»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(на примере образовательной области «Безопасность»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nstanti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 Фефилова О.В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ший воспитатель СП «Детский сад №66»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Карпогорская СОШ № 118»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1" descr="DSC_0008.JPG"/>
          <p:cNvPicPr/>
          <p:nvPr/>
        </p:nvPicPr>
        <p:blipFill>
          <a:blip r:embed="rId1"/>
          <a:stretch/>
        </p:blipFill>
        <p:spPr>
          <a:xfrm>
            <a:off x="179280" y="836640"/>
            <a:ext cx="882036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1" descr="DSC_0009.JPG"/>
          <p:cNvPicPr/>
          <p:nvPr/>
        </p:nvPicPr>
        <p:blipFill>
          <a:blip r:embed="rId1"/>
          <a:stretch/>
        </p:blipFill>
        <p:spPr>
          <a:xfrm>
            <a:off x="179280" y="907920"/>
            <a:ext cx="8748720" cy="58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1" descr="DSC_0010.JPG"/>
          <p:cNvPicPr/>
          <p:nvPr/>
        </p:nvPicPr>
        <p:blipFill>
          <a:blip r:embed="rId1"/>
          <a:stretch/>
        </p:blipFill>
        <p:spPr>
          <a:xfrm>
            <a:off x="250920" y="907920"/>
            <a:ext cx="8642160" cy="57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9280" y="1267920"/>
            <a:ext cx="7704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9" name="Диаграмма 4" descr=""/>
          <p:cNvPicPr/>
          <p:nvPr/>
        </p:nvPicPr>
        <p:blipFill>
          <a:blip r:embed="rId1"/>
          <a:stretch/>
        </p:blipFill>
        <p:spPr>
          <a:xfrm>
            <a:off x="1523880" y="1397160"/>
            <a:ext cx="6096240" cy="4063680"/>
          </a:xfrm>
          <a:prstGeom prst="rect">
            <a:avLst/>
          </a:prstGeom>
          <a:ln w="0">
            <a:noFill/>
          </a:ln>
        </p:spPr>
      </p:pic>
      <p:sp>
        <p:nvSpPr>
          <p:cNvPr id="120" name="TextBox 5"/>
          <p:cNvSpPr/>
          <p:nvPr/>
        </p:nvSpPr>
        <p:spPr>
          <a:xfrm>
            <a:off x="1692360" y="404640"/>
            <a:ext cx="597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Распределение детей по уровням воспроизведения знаний полученных на занятии в 1 и 2 части эксперимента (ЭГ – группа Б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Вывод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Результаты второй части эксперимента свидетельствуют о том, что схематический рисунок можно применять на занятиях как средство закрепления знаний у детей старшего дошкольного возраста при следующих условиях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- обучения детей фиксировать информацию в схематическом рисунке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- упражнения детей в применении схематического рисунка для закрепления и воспроизведения знаний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- включения схематического рисунка в заключительную часть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занятия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Схематический рисунок является достаточно эффективным средством закрепления знаний детей на занятиях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Итоговый этап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Выступление на педсовете по обмену опытом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«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Использование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схематического  рисунка для  закрепления знаний на занятиях у детей старшего дошкольного возраста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Доклад   на научно – практической конференции в С(А)ФУ г. Северодвинск с темой «Схематический рисунок как средство закрепления знаний на занятиях у детей старшего дошкольного возраста (на примере образовательной области «Безопасность»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Заголовок 1" descr=""/>
          <p:cNvPicPr/>
          <p:nvPr/>
        </p:nvPicPr>
        <p:blipFill>
          <a:blip r:embed="rId1"/>
          <a:stretch/>
        </p:blipFill>
        <p:spPr>
          <a:xfrm>
            <a:off x="450720" y="1981080"/>
            <a:ext cx="832176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1360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АКТУАЛЬНОСТЬ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24000" y="1341000"/>
            <a:ext cx="8640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Актуальность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выбранной темы определяется тем, что  на данный момент использование схематического рисунка изучалось как средство запоминания в лабораторных условиях и в работе по коррекции памяти, но не изучалось  как средство закрепления знаний на занятиях.  Обучение детей фиксировать предметы с помощью схематического рисунка  облегчит и ускорит процесс запоминания и усвоение материала. Применяя схематический рисунок, дети научатся  планировать высказывани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ЦЕЛЬ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1916280"/>
            <a:ext cx="81360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изучение возможностей использования схематического рисунка как средства закрепления знаний на занятиях у детей  старшего дошкольного возраста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ЗАДАЧИ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психолого – педагогическую литературу по данной тем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ыявить особенности  применения педагогами ДОУ средств закрепления знаний на занятиях при освоении образовательной области «Безопасность»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азработать и апробировать методику обучения детей старшего дошкольного возраста  использованию схематического рисунка как средства закрепления знаний на занятиях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оверить эффективность использования схематического рисунка как средства закрепления знаний детей старшего дошкольного возраста на занятиях при освоении образовательной области «Безопасность»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42472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ЭТАПЫ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РАБОТЫ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9280" y="907920"/>
            <a:ext cx="820908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о подготовительный этап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сещение библиотек, педагогических сайтов в интернете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дбор и изучение научно – методической литературы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накомство с работами других педагогов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ий этап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выявление особенностей и оценка эффективности применения педагогами ДОУ средств закрепления знаний детей на занятиях при освоении образовательной области «Безопасность»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  - разработка и апробация методики обучения детей старшего дошкольного возраста  использованию схематического рисунка как средства закрепления знаний на занятиях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 проверка эффективности использования схематического рисунка как средства закрепления знаний детей старшего дошкольного возраста на занятиях при освоении образовательной области «Безопасность»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овый этап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ступление на педсовете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оклад на научно – практической конференции в С(А)ФУ г. Северодвинск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актический этап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50560" y="1196640"/>
            <a:ext cx="87138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Задачи 1 части этапа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Изучить  и проанализировать опыт работы педагогов ДОУ по использованию средств закрепления знаний на занятиях на примере образовательной области «Безопасность»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Оценить эффективность применения  педагогами средств закрепления знаний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актический этап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Задачи 2 части этап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Разработать и апробировать методику применения схематического рисунка с целью закрепления знаний детей, включающую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) обучение детей фиксировать информацию в схематическом рисунк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) упражнение детей в применении схематического рисунка для закрепления и воспроизведения знани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) включение схематического рисунка в заключительную часть занятия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5"/>
          <p:cNvSpPr/>
          <p:nvPr/>
        </p:nvSpPr>
        <p:spPr>
          <a:xfrm>
            <a:off x="468360" y="1557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11" name="Содержимое 7" descr=""/>
          <p:cNvPicPr/>
          <p:nvPr/>
        </p:nvPicPr>
        <p:blipFill>
          <a:blip r:embed="rId1"/>
          <a:stretch/>
        </p:blipFill>
        <p:spPr>
          <a:xfrm>
            <a:off x="457200" y="1935000"/>
            <a:ext cx="8229600" cy="438948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8"/>
          <p:cNvSpPr/>
          <p:nvPr/>
        </p:nvSpPr>
        <p:spPr>
          <a:xfrm>
            <a:off x="900000" y="83664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Уровни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воспроизведения знаний полученных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на заняти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1" descr="DSC_0007.JPG"/>
          <p:cNvPicPr/>
          <p:nvPr/>
        </p:nvPicPr>
        <p:blipFill>
          <a:blip r:embed="rId1"/>
          <a:stretch/>
        </p:blipFill>
        <p:spPr>
          <a:xfrm>
            <a:off x="179280" y="836640"/>
            <a:ext cx="882036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7T08:04:26Z</dcterms:created>
  <dc:creator>михаил</dc:creator>
  <dc:description/>
  <dc:language>en-US</dc:language>
  <cp:lastModifiedBy>Учитель</cp:lastModifiedBy>
  <dcterms:modified xsi:type="dcterms:W3CDTF">2014-04-15T05:27:51Z</dcterms:modified>
  <cp:revision>46</cp:revision>
  <dc:subject/>
  <dc:title>ТЕМА</dc:title>
</cp:coreProperties>
</file>