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12193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d3e2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3e2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move the slide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d3e2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69E1-4D56-46C1-B837-0D1F702A8240}" type="slidenum">
              <a:rPr b="0" lang="ru-RU" sz="1200" spc="-1" strike="noStrike">
                <a:solidFill>
                  <a:srgbClr val="4d3e2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0CE9-98C8-40A4-8769-34041A803FCA}" type="slidenum">
              <a:rPr b="0" lang="ru-RU" sz="1200" spc="-1" strike="noStrike">
                <a:solidFill>
                  <a:srgbClr val="4d3e2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65A7-C588-49FE-BA72-1D36C0693FDF}" type="slidenum">
              <a:rPr b="0" lang="ru-RU" sz="1200" spc="-1" strike="noStrike">
                <a:solidFill>
                  <a:srgbClr val="4d3e2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16FF-959D-4145-A99E-7CDC96016473}" type="slidenum">
              <a:rPr b="0" lang="ru-RU" sz="1200" spc="-1" strike="noStrike">
                <a:solidFill>
                  <a:srgbClr val="4d3e2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79320" y="477792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49840" y="9429840"/>
            <a:ext cx="29462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3A53-F85F-42DA-8014-9D05203ABDBE}" type="slidenum">
              <a:rPr b="0" lang="ru-RU" sz="1200" spc="-1" strike="noStrike">
                <a:solidFill>
                  <a:srgbClr val="4d3e2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24C3-859A-4684-A039-A4DC6459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51D0-4571-42DB-9F66-549CC93A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6183-7E75-4036-A0C4-9E419D7B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03CA-DAE1-4976-B4AB-62D1ADDA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39281-8760-4B3D-939D-8DD37703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12EF7-F7D9-42B3-AF14-0AB331DE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15BB9-4E33-463B-888E-A158A167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D189F-871E-4D6A-AF30-BFB853EE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D3F33-A61D-4FFA-973D-7D1CF8FB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B67D4-E97F-41FF-8483-31880A7D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4BDF4-9C4A-4EF6-8C04-AD594ECF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63D3-72A7-45EA-9509-CBAEEF80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3E08D-BF02-410A-8C81-185A2168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0C3B3-2350-4B25-8229-23EE702D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3CC71-70E5-475B-8D30-7786CF2D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8F737-96C9-4A5A-8CA0-E63F6115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C1970-3E02-4CCF-82A3-753EFC8C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2464-F9F2-4349-AC4E-59658A45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C7A95-5C65-47B4-9EE0-905DFEF5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B4454-7122-4EDE-877F-AFC0A725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37579-C4EB-4E65-B3E1-607021A3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3056-953E-483D-BDB5-AAF11803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2548B-9DB5-4F4B-813E-9A9112A7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3A325-CC05-4078-8926-BB9C5CFB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8731-576E-4052-90CA-3CFB32F7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DA47E-F8FB-45FA-A85F-1FEA57AD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E55B2-FBB3-4506-BBBB-EFA63A0E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0DD3C-B609-464B-84D7-9AD4A020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4CBB0-FB48-4563-A2CB-96AC51D70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4D243-E912-46FC-9841-C095FF97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FBA6-774A-463E-877E-119B4C28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ADB6-8EA3-45B8-A7BA-4D8825F7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232B-9104-4DB0-AB94-2E885C1F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77BE-2356-491B-80E4-C09BD713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7B51F-023E-4633-9251-0A1D5E2EE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C6586-EBAF-4FC7-9CC7-0C7E983B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38536-CDB6-405E-9266-C1817E88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499E7-7533-4503-802A-723ECA67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D98E-4E0F-4AE8-A24E-BC1D2C76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54512-15A4-4982-BBF7-974A443F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1FEC2-2275-4C68-8363-BE8B9693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AE21-DFA1-4BC4-8B72-EDC64495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21014-AFC7-4E44-A4FB-DB49A8E8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53F17-BF47-4CBA-B854-9C1D78A5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4D6FC-4F18-41D3-BC3E-5B02FEE1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A2321-7A4A-4516-BB60-E8D7673C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B9C4A-EC43-41E7-86C8-A4006134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96BA-60CA-45D6-BE60-32B621AC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409400" y="276120"/>
            <a:ext cx="93726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409400" y="3979080"/>
            <a:ext cx="93726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12160" y="156492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40940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12160" y="3979080"/>
            <a:ext cx="457380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0940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848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747560" y="156492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40940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57848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7747560" y="3979080"/>
            <a:ext cx="3017880" cy="22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1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0" y="6629040"/>
            <a:ext cx="411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DB4A-421D-4198-A945-222378A27D69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431280" y="6629040"/>
            <a:ext cx="100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163836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411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1C0B-1ADD-461E-BFFD-6605ECEB4F86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5"/>
          </p:nvPr>
        </p:nvSpPr>
        <p:spPr>
          <a:xfrm>
            <a:off x="431280" y="6629040"/>
            <a:ext cx="100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163836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8" descr="Кучевые белые облака на фоне синего неба"/>
          <p:cNvPicPr/>
          <p:nvPr/>
        </p:nvPicPr>
        <p:blipFill>
          <a:blip r:embed="rId2"/>
          <a:stretch/>
        </p:blipFill>
        <p:spPr>
          <a:xfrm>
            <a:off x="0" y="2057400"/>
            <a:ext cx="149076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11"/>
          <p:cNvSpPr/>
          <p:nvPr/>
        </p:nvSpPr>
        <p:spPr>
          <a:xfrm>
            <a:off x="1600200" y="0"/>
            <a:ext cx="5029200" cy="5943600"/>
          </a:xfrm>
          <a:prstGeom prst="rect">
            <a:avLst/>
          </a:prstGeom>
          <a:solidFill>
            <a:srgbClr val="8b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88" name="Рисунок 12" descr="Крупный план цветка"/>
          <p:cNvPicPr/>
          <p:nvPr/>
        </p:nvPicPr>
        <p:blipFill>
          <a:blip r:embed="rId3"/>
          <a:stretch/>
        </p:blipFill>
        <p:spPr>
          <a:xfrm>
            <a:off x="6738840" y="2057400"/>
            <a:ext cx="2060640" cy="38862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Волны"/>
          <p:cNvPicPr/>
          <p:nvPr/>
        </p:nvPicPr>
        <p:blipFill>
          <a:blip r:embed="rId4"/>
          <a:stretch/>
        </p:blipFill>
        <p:spPr>
          <a:xfrm>
            <a:off x="8908920" y="2057400"/>
            <a:ext cx="3283200" cy="38862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129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130" name="Содержимое 3" descr="photodune-1895990-green-grass-l.jpg"/>
          <p:cNvPicPr/>
          <p:nvPr/>
        </p:nvPicPr>
        <p:blipFill>
          <a:blip r:embed="rId2"/>
          <a:srcRect l="0" t="0" r="0" b="1562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Пятиугольник 11"/>
          <p:cNvSpPr/>
          <p:nvPr/>
        </p:nvSpPr>
        <p:spPr>
          <a:xfrm>
            <a:off x="0" y="457200"/>
            <a:ext cx="1008000" cy="4968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77" y="0"/>
                </a:lnTo>
                <a:lnTo>
                  <a:pt x="21600" y="10800"/>
                </a:lnTo>
                <a:lnTo>
                  <a:pt x="162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31280" y="6629040"/>
            <a:ext cx="100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163836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0" y="6629040"/>
            <a:ext cx="411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0687-A58B-4DC0-AAFB-E154836BB8B7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8"/>
          <p:cNvSpPr/>
          <p:nvPr/>
        </p:nvSpPr>
        <p:spPr>
          <a:xfrm>
            <a:off x="1600200" y="2058840"/>
            <a:ext cx="7199280" cy="3886200"/>
          </a:xfrm>
          <a:prstGeom prst="rect">
            <a:avLst/>
          </a:prstGeom>
          <a:solidFill>
            <a:srgbClr val="8b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174" name="Рисунок 11" descr="Волны"/>
          <p:cNvPicPr/>
          <p:nvPr/>
        </p:nvPicPr>
        <p:blipFill>
          <a:blip r:embed="rId2"/>
          <a:stretch/>
        </p:blipFill>
        <p:spPr>
          <a:xfrm>
            <a:off x="8908920" y="2058840"/>
            <a:ext cx="3283200" cy="38862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2" descr="Крупный план зеленых насаждений"/>
          <p:cNvPicPr/>
          <p:nvPr/>
        </p:nvPicPr>
        <p:blipFill>
          <a:blip r:embed="rId3"/>
          <a:stretch/>
        </p:blipFill>
        <p:spPr>
          <a:xfrm>
            <a:off x="0" y="2058840"/>
            <a:ext cx="1490760" cy="38862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215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216" name="Рисунок 8" descr="Кучевые белые облака на фоне синего неба"/>
          <p:cNvPicPr/>
          <p:nvPr/>
        </p:nvPicPr>
        <p:blipFill>
          <a:blip r:embed="rId2"/>
          <a:stretch/>
        </p:blipFill>
        <p:spPr>
          <a:xfrm>
            <a:off x="0" y="2057400"/>
            <a:ext cx="1490760" cy="388620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11"/>
          <p:cNvSpPr/>
          <p:nvPr/>
        </p:nvSpPr>
        <p:spPr>
          <a:xfrm>
            <a:off x="1600200" y="0"/>
            <a:ext cx="5029200" cy="5943600"/>
          </a:xfrm>
          <a:prstGeom prst="rect">
            <a:avLst/>
          </a:prstGeom>
          <a:solidFill>
            <a:srgbClr val="8b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218" name="Рисунок 12" descr="Крупный план цветка"/>
          <p:cNvPicPr/>
          <p:nvPr/>
        </p:nvPicPr>
        <p:blipFill>
          <a:blip r:embed="rId3"/>
          <a:stretch/>
        </p:blipFill>
        <p:spPr>
          <a:xfrm>
            <a:off x="6738840" y="2057400"/>
            <a:ext cx="2060640" cy="38862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3" descr="Волны"/>
          <p:cNvPicPr/>
          <p:nvPr/>
        </p:nvPicPr>
        <p:blipFill>
          <a:blip r:embed="rId4"/>
          <a:stretch/>
        </p:blipFill>
        <p:spPr>
          <a:xfrm>
            <a:off x="8908920" y="2057400"/>
            <a:ext cx="3283200" cy="38862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259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260" name="Picture 2" descr="D:\Экоурок\Материалы для урока\Логотип (растровый).jpg"/>
          <p:cNvPicPr/>
          <p:nvPr/>
        </p:nvPicPr>
        <p:blipFill>
          <a:blip r:embed="rId2"/>
          <a:stretch/>
        </p:blipFill>
        <p:spPr>
          <a:xfrm>
            <a:off x="9975960" y="0"/>
            <a:ext cx="1838160" cy="1300320"/>
          </a:xfrm>
          <a:prstGeom prst="rect">
            <a:avLst/>
          </a:prstGeom>
          <a:ln w="0">
            <a:noFill/>
          </a:ln>
        </p:spPr>
      </p:pic>
      <p:sp>
        <p:nvSpPr>
          <p:cNvPr id="261" name="Пятиугольник 11"/>
          <p:cNvSpPr/>
          <p:nvPr/>
        </p:nvSpPr>
        <p:spPr>
          <a:xfrm>
            <a:off x="0" y="457200"/>
            <a:ext cx="1008000" cy="49680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77" y="0"/>
                </a:lnTo>
                <a:lnTo>
                  <a:pt x="21600" y="10800"/>
                </a:lnTo>
                <a:lnTo>
                  <a:pt x="162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0"/>
          </p:nvPr>
        </p:nvSpPr>
        <p:spPr>
          <a:xfrm>
            <a:off x="431280" y="6629040"/>
            <a:ext cx="100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1"/>
          </p:nvPr>
        </p:nvSpPr>
        <p:spPr>
          <a:xfrm>
            <a:off x="1638360" y="6629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2"/>
          </p:nvPr>
        </p:nvSpPr>
        <p:spPr>
          <a:xfrm>
            <a:off x="0" y="6629040"/>
            <a:ext cx="411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687f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B20B-4BEC-4685-9725-84B85D1F8895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6629400"/>
            <a:ext cx="1500120" cy="228600"/>
          </a:xfrm>
          <a:prstGeom prst="rect">
            <a:avLst/>
          </a:prstGeom>
          <a:gradFill rotWithShape="0">
            <a:gsLst>
              <a:gs pos="0">
                <a:srgbClr val="f6ffcc"/>
              </a:gs>
              <a:gs pos="100000">
                <a:srgbClr val="f6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1609560" y="6629400"/>
            <a:ext cx="10582560" cy="228600"/>
          </a:xfrm>
          <a:prstGeom prst="rect">
            <a:avLst/>
          </a:prstGeom>
          <a:gradFill rotWithShape="0">
            <a:gsLst>
              <a:gs pos="0">
                <a:srgbClr val="e9ff88"/>
              </a:gs>
              <a:gs pos="100000">
                <a:srgbClr val="e9ff8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05" name="Прямоугольник 8"/>
          <p:cNvSpPr/>
          <p:nvPr/>
        </p:nvSpPr>
        <p:spPr>
          <a:xfrm>
            <a:off x="1600200" y="2058840"/>
            <a:ext cx="7199280" cy="3886200"/>
          </a:xfrm>
          <a:prstGeom prst="rect">
            <a:avLst/>
          </a:prstGeom>
          <a:solidFill>
            <a:srgbClr val="8b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306" name="Рисунок 11" descr="Волны"/>
          <p:cNvPicPr/>
          <p:nvPr/>
        </p:nvPicPr>
        <p:blipFill>
          <a:blip r:embed="rId2"/>
          <a:stretch/>
        </p:blipFill>
        <p:spPr>
          <a:xfrm>
            <a:off x="8908920" y="2058840"/>
            <a:ext cx="3283200" cy="388620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12" descr="Крупный план зеленых насаждений"/>
          <p:cNvPicPr/>
          <p:nvPr/>
        </p:nvPicPr>
        <p:blipFill>
          <a:blip r:embed="rId3"/>
          <a:stretch/>
        </p:blipFill>
        <p:spPr>
          <a:xfrm>
            <a:off x="0" y="2058840"/>
            <a:ext cx="1490760" cy="38862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8baa00"/>
                </a:solidFill>
                <a:latin typeface="Corbel"/>
              </a:rPr>
              <a:t>Click to edit the title text format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1" marL="43812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2" marL="6764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3" marL="9050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4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5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  <a:p>
            <a:pPr lvl="6" marL="1133640" indent="-15408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3e2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55920" y="1832040"/>
            <a:ext cx="517176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rbel"/>
              </a:rPr>
              <a:t>«На этой земле жить тебе и мне!»</a:t>
            </a:r>
            <a:br>
              <a:rPr sz="7200"/>
            </a:b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( внеклассное мероприятие)</a:t>
            </a:r>
            <a:endParaRPr b="0" lang="en-US" sz="28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750680" y="5381640"/>
            <a:ext cx="484668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Гаврилова Ольга Геннадьевна, </a:t>
            </a:r>
            <a:endParaRPr b="0" lang="en-US" sz="1800" spc="-1" strike="noStrike">
              <a:solidFill>
                <a:srgbClr val="4d3e2f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учитель химии МБОУ  «Пинежская СШ №117»</a:t>
            </a:r>
            <a:endParaRPr b="0" lang="en-US" sz="1800" spc="-1" strike="noStrike">
              <a:solidFill>
                <a:srgbClr val="4d3e2f"/>
              </a:solidFill>
              <a:latin typeface="Corbe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1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7189-6763-4791-8551-135BE6A160CD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1" name="Дата 2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2" name="Нижний колонтитул 3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393" name="Picture 2" descr="http://i.mycdn.me/i?r=AzEPZsRbOZEKgBhR0XGMT1Rkm6b1iguUGx-LN5SveMLDCKaKTM5SRkZCeTgDn6uOyic"/>
          <p:cNvPicPr/>
          <p:nvPr/>
        </p:nvPicPr>
        <p:blipFill>
          <a:blip r:embed="rId1"/>
          <a:stretch/>
        </p:blipFill>
        <p:spPr>
          <a:xfrm>
            <a:off x="0" y="0"/>
            <a:ext cx="12192120" cy="691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50680" y="1832040"/>
            <a:ext cx="484668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rbel"/>
              </a:rPr>
              <a:t>На этой земле жить тебе и мне! </a:t>
            </a:r>
            <a:endParaRPr b="0" lang="en-US" sz="72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  <p:transition spd="med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Прямоугольная выноска 25"/>
          <p:cNvSpPr/>
          <p:nvPr/>
        </p:nvSpPr>
        <p:spPr>
          <a:xfrm>
            <a:off x="0" y="0"/>
            <a:ext cx="2347920" cy="3726000"/>
          </a:xfrm>
          <a:prstGeom prst="wedgeRectCallout">
            <a:avLst>
              <a:gd name="adj1" fmla="val 63601"/>
              <a:gd name="adj2" fmla="val -19365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Сколько времени разлагается бытовой мусор? 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6" name="Прямоугольная выноска 27"/>
          <p:cNvSpPr/>
          <p:nvPr/>
        </p:nvSpPr>
        <p:spPr>
          <a:xfrm>
            <a:off x="7972560" y="609480"/>
            <a:ext cx="2141280" cy="1451160"/>
          </a:xfrm>
          <a:prstGeom prst="wedgeRectCallout">
            <a:avLst>
              <a:gd name="adj1" fmla="val 69611"/>
              <a:gd name="adj2" fmla="val -22120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от 2 до 10 лет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7" name="Прямоугольная выноска 28"/>
          <p:cNvSpPr/>
          <p:nvPr/>
        </p:nvSpPr>
        <p:spPr>
          <a:xfrm>
            <a:off x="5245200" y="2263680"/>
            <a:ext cx="2143080" cy="1451160"/>
          </a:xfrm>
          <a:prstGeom prst="wedgeRectCallout">
            <a:avLst>
              <a:gd name="adj1" fmla="val 67703"/>
              <a:gd name="adj2" fmla="val 19259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500 лет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8" name="Прямоугольная выноска 29"/>
          <p:cNvSpPr/>
          <p:nvPr/>
        </p:nvSpPr>
        <p:spPr>
          <a:xfrm>
            <a:off x="2681280" y="2252520"/>
            <a:ext cx="2143080" cy="1451160"/>
          </a:xfrm>
          <a:prstGeom prst="wedgeRectCallout">
            <a:avLst>
              <a:gd name="adj1" fmla="val 69611"/>
              <a:gd name="adj2" fmla="val 19259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100 лет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99" name="Прямоугольная выноска 30"/>
          <p:cNvSpPr/>
          <p:nvPr/>
        </p:nvSpPr>
        <p:spPr>
          <a:xfrm>
            <a:off x="2695680" y="547560"/>
            <a:ext cx="2143080" cy="1451160"/>
          </a:xfrm>
          <a:prstGeom prst="wedgeRectCallout">
            <a:avLst>
              <a:gd name="adj1" fmla="val 67703"/>
              <a:gd name="adj2" fmla="val -20240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2-5 недель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0" name="Прямоугольная выноска 32"/>
          <p:cNvSpPr/>
          <p:nvPr/>
        </p:nvSpPr>
        <p:spPr>
          <a:xfrm>
            <a:off x="5356080" y="592200"/>
            <a:ext cx="2143440" cy="1450800"/>
          </a:xfrm>
          <a:prstGeom prst="wedgeRectCallout">
            <a:avLst>
              <a:gd name="adj1" fmla="val 68337"/>
              <a:gd name="adj2" fmla="val -18361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1 год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1" name="Прямоугольная выноска 9"/>
          <p:cNvSpPr/>
          <p:nvPr/>
        </p:nvSpPr>
        <p:spPr>
          <a:xfrm>
            <a:off x="7989840" y="2320920"/>
            <a:ext cx="2143080" cy="1451160"/>
          </a:xfrm>
          <a:prstGeom prst="wedgeRectCallout">
            <a:avLst>
              <a:gd name="adj1" fmla="val 67703"/>
              <a:gd name="adj2" fmla="val 19259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более 1000 лет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ая выноска 25"/>
          <p:cNvSpPr/>
          <p:nvPr/>
        </p:nvSpPr>
        <p:spPr>
          <a:xfrm>
            <a:off x="0" y="0"/>
            <a:ext cx="2347920" cy="3726000"/>
          </a:xfrm>
          <a:prstGeom prst="wedgeRectCallout">
            <a:avLst>
              <a:gd name="adj1" fmla="val 63601"/>
              <a:gd name="adj2" fmla="val -19365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Сколько времени разлагается бытовой мусор? 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3" name="Прямоугольная выноска 26"/>
          <p:cNvSpPr/>
          <p:nvPr/>
        </p:nvSpPr>
        <p:spPr>
          <a:xfrm>
            <a:off x="2770200" y="4081320"/>
            <a:ext cx="6837480" cy="2606760"/>
          </a:xfrm>
          <a:prstGeom prst="wedgeRectCallout">
            <a:avLst>
              <a:gd name="adj1" fmla="val 56287"/>
              <a:gd name="adj2" fmla="val -21194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На каждого жителя страны приходится более 400 кг мусора в год.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Общая численность населения 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п.Пинега на 2020 год составляет приблизительно 3,5 тысяч человек.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eiryo"/>
              </a:rPr>
              <a:t>???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4" name="Прямоугольная выноска 27"/>
          <p:cNvSpPr/>
          <p:nvPr/>
        </p:nvSpPr>
        <p:spPr>
          <a:xfrm>
            <a:off x="7972560" y="609480"/>
            <a:ext cx="2141280" cy="1451160"/>
          </a:xfrm>
          <a:prstGeom prst="wedgeRectCallout">
            <a:avLst>
              <a:gd name="adj1" fmla="val 69611"/>
              <a:gd name="adj2" fmla="val -22120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БУМАГА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от 2 до 10 лет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5" name="Прямоугольная выноска 28"/>
          <p:cNvSpPr/>
          <p:nvPr/>
        </p:nvSpPr>
        <p:spPr>
          <a:xfrm>
            <a:off x="5245200" y="2263680"/>
            <a:ext cx="2143080" cy="1451160"/>
          </a:xfrm>
          <a:prstGeom prst="wedgeRectCallout">
            <a:avLst>
              <a:gd name="adj1" fmla="val 67703"/>
              <a:gd name="adj2" fmla="val 19259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ПЛАСТИКОВАЯ БУТЫЛКА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500 лет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6" name="Прямоугольная выноска 29"/>
          <p:cNvSpPr/>
          <p:nvPr/>
        </p:nvSpPr>
        <p:spPr>
          <a:xfrm>
            <a:off x="2681280" y="2252520"/>
            <a:ext cx="2143080" cy="1451160"/>
          </a:xfrm>
          <a:prstGeom prst="wedgeRectCallout">
            <a:avLst>
              <a:gd name="adj1" fmla="val 69611"/>
              <a:gd name="adj2" fmla="val 19259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ЖЕСТЯНАЯ БАНКА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100 лет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7" name="Прямоугольная выноска 30"/>
          <p:cNvSpPr/>
          <p:nvPr/>
        </p:nvSpPr>
        <p:spPr>
          <a:xfrm>
            <a:off x="2695680" y="547560"/>
            <a:ext cx="2143080" cy="1451160"/>
          </a:xfrm>
          <a:prstGeom prst="wedgeRectCallout">
            <a:avLst>
              <a:gd name="adj1" fmla="val 67703"/>
              <a:gd name="adj2" fmla="val -20240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ПИЩЕВЫЕ ОТХОДЫ 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2-5 недель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8" name="Прямоугольная выноска 31"/>
          <p:cNvSpPr/>
          <p:nvPr/>
        </p:nvSpPr>
        <p:spPr>
          <a:xfrm>
            <a:off x="7783560" y="2281320"/>
            <a:ext cx="2143080" cy="1450800"/>
          </a:xfrm>
          <a:prstGeom prst="wedgeRectCallout">
            <a:avLst>
              <a:gd name="adj1" fmla="val -19560"/>
              <a:gd name="adj2" fmla="val 72861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СТЕКЛО 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Meiryo"/>
              </a:rPr>
              <a:t>более 1000 лет</a:t>
            </a:r>
            <a:endParaRPr b="0" lang="en-US" sz="1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09" name="Прямоугольная выноска 32"/>
          <p:cNvSpPr/>
          <p:nvPr/>
        </p:nvSpPr>
        <p:spPr>
          <a:xfrm>
            <a:off x="5356080" y="592200"/>
            <a:ext cx="2143440" cy="1450800"/>
          </a:xfrm>
          <a:prstGeom prst="wedgeRectCallout">
            <a:avLst>
              <a:gd name="adj1" fmla="val 68337"/>
              <a:gd name="adj2" fmla="val -18361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ШЕРСТЯНОЙ НОСОК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Meiryo"/>
              </a:rPr>
              <a:t>1 год</a:t>
            </a:r>
            <a:endParaRPr b="0" lang="en-US" sz="20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50720" y="290160"/>
            <a:ext cx="9372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baa00"/>
                </a:solidFill>
                <a:latin typeface="Corbel"/>
              </a:rPr>
              <a:t>Описание проекта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pic>
        <p:nvPicPr>
          <p:cNvPr id="411" name="Содержимое 3" descr="photodune-1895990-green-grass-l.jpg"/>
          <p:cNvPicPr/>
          <p:nvPr/>
        </p:nvPicPr>
        <p:blipFill>
          <a:blip r:embed="rId1"/>
          <a:srcRect l="0" t="0" r="0" b="1562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ая выноска 4"/>
          <p:cNvSpPr/>
          <p:nvPr/>
        </p:nvSpPr>
        <p:spPr>
          <a:xfrm>
            <a:off x="0" y="0"/>
            <a:ext cx="3535200" cy="1473120"/>
          </a:xfrm>
          <a:prstGeom prst="wedgeRectCallout">
            <a:avLst>
              <a:gd name="adj1" fmla="val 25620"/>
              <a:gd name="adj2" fmla="val 39453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eiryo"/>
              </a:rPr>
              <a:t>Что делать </a:t>
            </a:r>
            <a:endParaRPr b="0" lang="en-US" sz="3200" spc="-1" strike="noStrike">
              <a:solidFill>
                <a:srgbClr val="4d3e2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eiryo"/>
              </a:rPr>
              <a:t>с отходами? </a:t>
            </a:r>
            <a:endParaRPr b="0" lang="en-US" sz="32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413" name="Схема 5" descr=""/>
          <p:cNvPicPr/>
          <p:nvPr/>
        </p:nvPicPr>
        <p:blipFill>
          <a:blip r:embed="rId2"/>
          <a:stretch/>
        </p:blipFill>
        <p:spPr>
          <a:xfrm>
            <a:off x="560520" y="1835280"/>
            <a:ext cx="10856880" cy="323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1409400" y="1564920"/>
            <a:ext cx="9372600" cy="4621320"/>
          </a:xfrm>
          <a:prstGeom prst="rect">
            <a:avLst/>
          </a:prstGeom>
          <a:ln w="0">
            <a:noFill/>
          </a:ln>
        </p:spPr>
      </p:pic>
      <p:sp>
        <p:nvSpPr>
          <p:cNvPr id="416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17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18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47B3-B8E8-47D0-9F01-B83DFEB1DCDB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419" name="Picture 2" descr="169906_900.jpg"/>
          <p:cNvPicPr/>
          <p:nvPr/>
        </p:nvPicPr>
        <p:blipFill>
          <a:blip r:embed="rId2"/>
          <a:stretch/>
        </p:blipFill>
        <p:spPr>
          <a:xfrm>
            <a:off x="0" y="0"/>
            <a:ext cx="12192120" cy="8142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102498_900.jpg"/>
          <p:cNvPicPr/>
          <p:nvPr/>
        </p:nvPicPr>
        <p:blipFill>
          <a:blip r:embed="rId3"/>
          <a:stretch/>
        </p:blipFill>
        <p:spPr>
          <a:xfrm>
            <a:off x="0" y="-368280"/>
            <a:ext cx="12192120" cy="8128080"/>
          </a:xfrm>
          <a:prstGeom prst="rect">
            <a:avLst/>
          </a:prstGeom>
          <a:ln w="0">
            <a:noFill/>
          </a:ln>
        </p:spPr>
      </p:pic>
      <p:sp>
        <p:nvSpPr>
          <p:cNvPr id="421" name="Прямоугольная выноска 8"/>
          <p:cNvSpPr/>
          <p:nvPr/>
        </p:nvSpPr>
        <p:spPr>
          <a:xfrm>
            <a:off x="5049720" y="4408560"/>
            <a:ext cx="2433600" cy="2627280"/>
          </a:xfrm>
          <a:prstGeom prst="wedgeRectCallout">
            <a:avLst>
              <a:gd name="adj1" fmla="val 49902"/>
              <a:gd name="adj2" fmla="val -6555"/>
            </a:avLst>
          </a:prstGeom>
          <a:solidFill>
            <a:srgbClr val="ffc0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e2f"/>
                </a:solidFill>
                <a:latin typeface="Meiryo"/>
              </a:rPr>
              <a:t>Готовы ли вы сортировать бытовой 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e2f"/>
                </a:solidFill>
                <a:latin typeface="Meiryo"/>
              </a:rPr>
              <a:t>мусор?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e2f"/>
                </a:solidFill>
                <a:latin typeface="Meiryo"/>
              </a:rPr>
              <a:t> </a:t>
            </a:r>
            <a:endParaRPr b="0" lang="en-US" sz="24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350720" y="290160"/>
            <a:ext cx="937260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baa00"/>
                </a:solidFill>
                <a:latin typeface="Corbel"/>
              </a:rPr>
              <a:t>Описание проекта</a:t>
            </a:r>
            <a:endParaRPr b="0" lang="en-US" sz="3400" spc="-1" strike="noStrike">
              <a:solidFill>
                <a:srgbClr val="8baa00"/>
              </a:solidFill>
              <a:latin typeface="Corbel"/>
            </a:endParaRPr>
          </a:p>
        </p:txBody>
      </p:sp>
      <p:pic>
        <p:nvPicPr>
          <p:cNvPr id="423" name="Содержимое 3" descr="photodune-1895990-green-grass-l.jpg"/>
          <p:cNvPicPr/>
          <p:nvPr/>
        </p:nvPicPr>
        <p:blipFill>
          <a:blip r:embed="rId1"/>
          <a:srcRect l="0" t="0" r="0" b="15627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ая выноска 4"/>
          <p:cNvSpPr/>
          <p:nvPr/>
        </p:nvSpPr>
        <p:spPr>
          <a:xfrm>
            <a:off x="0" y="0"/>
            <a:ext cx="12192120" cy="777960"/>
          </a:xfrm>
          <a:prstGeom prst="wedgeRectCallout">
            <a:avLst>
              <a:gd name="adj1" fmla="val 25620"/>
              <a:gd name="adj2" fmla="val 49981"/>
            </a:avLst>
          </a:prstGeom>
          <a:solidFill>
            <a:srgbClr val="8baa00"/>
          </a:solidFill>
          <a:ln w="12600">
            <a:solidFill>
              <a:srgbClr val="65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eiryo"/>
              </a:rPr>
              <a:t>Комплексный подход к обращению с отходами</a:t>
            </a:r>
            <a:endParaRPr b="0" lang="en-US" sz="32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425" name="Схема 5" descr=""/>
          <p:cNvPicPr/>
          <p:nvPr/>
        </p:nvPicPr>
        <p:blipFill>
          <a:blip r:embed="rId2"/>
          <a:stretch/>
        </p:blipFill>
        <p:spPr>
          <a:xfrm>
            <a:off x="914400" y="1285920"/>
            <a:ext cx="10558440" cy="4481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314000" y="982440"/>
            <a:ext cx="1005372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3e2f"/>
                </a:solidFill>
                <a:latin typeface="Corbel"/>
              </a:rPr>
              <a:t>« Самый  сильный в мире магнит -           …            .        Бросьте его в чистом месте и посмотрите, сколько всего к нему потянется»</a:t>
            </a:r>
            <a:endParaRPr b="0" lang="en-US" sz="36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3e2f"/>
                </a:solidFill>
                <a:latin typeface="Corbel"/>
              </a:rPr>
              <a:t>                          </a:t>
            </a:r>
            <a:r>
              <a:rPr b="1" lang="ru-RU" sz="2800" spc="-1" strike="noStrike">
                <a:solidFill>
                  <a:srgbClr val="4d3e2f"/>
                </a:solidFill>
                <a:latin typeface="Corbel"/>
              </a:rPr>
              <a:t>(Из «Всемирной стратегии охраны природы»)</a:t>
            </a:r>
            <a:endParaRPr b="0" lang="en-US" sz="28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427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28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29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0DB0-8C27-4E1B-88D1-8E10CEB2194D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8420040" y="91440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3659"/>
                </a:solidFill>
                <a:latin typeface="Arial"/>
              </a:rPr>
              <a:t>МУСОР</a:t>
            </a:r>
            <a:endParaRPr b="0" lang="en-US" sz="36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50680" y="1832040"/>
            <a:ext cx="484668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orbel"/>
              </a:rPr>
              <a:t>На этой земле жить тебе и мне! </a:t>
            </a:r>
            <a:endParaRPr b="0" lang="en-US" sz="7200" spc="-1" strike="noStrike">
              <a:solidFill>
                <a:srgbClr val="8baa00"/>
              </a:solidFill>
              <a:latin typeface="Corbel"/>
            </a:endParaRPr>
          </a:p>
        </p:txBody>
      </p:sp>
    </p:spTree>
  </p:cSld>
  <p:transition spd="med"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4d3e2f"/>
                </a:solidFill>
                <a:uFillTx/>
                <a:latin typeface="Corbel"/>
              </a:rPr>
              <a:t>Правила работы в группах</a:t>
            </a:r>
            <a:endParaRPr b="0" lang="en-US" sz="3600" spc="-1" strike="noStrike">
              <a:solidFill>
                <a:srgbClr val="8baa00"/>
              </a:solidFill>
              <a:latin typeface="Corbe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09400" y="1564920"/>
            <a:ext cx="937260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3e2f"/>
                </a:solidFill>
                <a:latin typeface="Corbel"/>
              </a:rPr>
              <a:t>Работайте вместе</a:t>
            </a:r>
            <a:endParaRPr b="0" lang="en-US" sz="40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3e2f"/>
                </a:solidFill>
                <a:latin typeface="Corbel"/>
              </a:rPr>
              <a:t>Работайте тихо</a:t>
            </a:r>
            <a:endParaRPr b="0" lang="en-US" sz="40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3e2f"/>
                </a:solidFill>
                <a:latin typeface="Corbel"/>
              </a:rPr>
              <a:t>Помогайте друг другу</a:t>
            </a:r>
            <a:endParaRPr b="0" lang="en-US" sz="40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3e2f"/>
                </a:solidFill>
                <a:latin typeface="Corbel"/>
              </a:rPr>
              <a:t>Будьте вежливы </a:t>
            </a:r>
            <a:endParaRPr b="0" lang="en-US" sz="40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57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58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59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7C7A-29CD-4C9E-BC71-BCFF1763DAAA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314000" y="982440"/>
            <a:ext cx="1005372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09520" indent="-2095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3e2f"/>
                </a:solidFill>
                <a:latin typeface="Corbel"/>
              </a:rPr>
              <a:t>« Самый  сильный в мире магнит -           …            .        Бросьте его в чистом месте и посмотрите, сколько всего к нему потянется»</a:t>
            </a:r>
            <a:endParaRPr b="0" lang="en-US" sz="36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3e2f"/>
                </a:solidFill>
                <a:latin typeface="Corbel"/>
              </a:rPr>
              <a:t>                          </a:t>
            </a:r>
            <a:r>
              <a:rPr b="1" lang="ru-RU" sz="2800" spc="-1" strike="noStrike">
                <a:solidFill>
                  <a:srgbClr val="4d3e2f"/>
                </a:solidFill>
                <a:latin typeface="Corbel"/>
              </a:rPr>
              <a:t>(Из «Всемирной стратегии охраны природы»)</a:t>
            </a:r>
            <a:endParaRPr b="0" lang="en-US" sz="2800" spc="-1" strike="noStrike">
              <a:solidFill>
                <a:srgbClr val="4d3e2f"/>
              </a:solidFill>
              <a:latin typeface="Corbel"/>
            </a:endParaRPr>
          </a:p>
          <a:p>
            <a:pPr marL="209520" indent="-209520">
              <a:lnSpc>
                <a:spcPct val="90000"/>
              </a:lnSpc>
              <a:spcBef>
                <a:spcPts val="1100"/>
              </a:spcBef>
              <a:buClr>
                <a:srgbClr val="4d3e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3e2f"/>
              </a:solidFill>
              <a:latin typeface="Corbel"/>
            </a:endParaRPr>
          </a:p>
        </p:txBody>
      </p:sp>
      <p:sp>
        <p:nvSpPr>
          <p:cNvPr id="361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62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63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E033-978D-469E-B6A6-B111AED59D1A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64" name="TextBox 6"/>
          <p:cNvSpPr/>
          <p:nvPr/>
        </p:nvSpPr>
        <p:spPr>
          <a:xfrm>
            <a:off x="8420040" y="91440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53659"/>
                </a:solidFill>
                <a:latin typeface="Arial"/>
              </a:rPr>
              <a:t>МУСОР</a:t>
            </a:r>
            <a:endParaRPr b="0" lang="en-US" sz="36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Содержимое 10" descr="havai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67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68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8426-5CFD-48A8-9CCD-4FA2A6C106E9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Shape 15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71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72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7E2C-62CC-4AE0-903D-46B7D32C3315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09400" y="276120"/>
            <a:ext cx="93726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8baa00"/>
              </a:solidFill>
              <a:latin typeface="Corbel"/>
            </a:endParaRPr>
          </a:p>
        </p:txBody>
      </p:sp>
      <p:pic>
        <p:nvPicPr>
          <p:cNvPr id="374" name="Содержимое 6" descr="Akkra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Дата 3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76" name="Нижний колонтитул 4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77" name="Номер слайда 5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7CE3-F97B-4279-BC53-C56EB6BA8D4E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3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CDD3-E27C-4B05-AD1F-B93C92148609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79" name="Дата 1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80" name="Нижний колонтитул 2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381" name="Picture 2" descr="Свалки Великобритании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Номер слайда 3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89BA-C488-4772-9CF1-14DD31D9B801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83" name="Дата 1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84" name="Нижний колонтитул 2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385" name="Picture 2" descr="Фреш Киллз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Номер слайда 3"/>
          <p:cNvSpPr/>
          <p:nvPr/>
        </p:nvSpPr>
        <p:spPr>
          <a:xfrm>
            <a:off x="0" y="6629400"/>
            <a:ext cx="411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AC47-761D-4A62-BFFB-0CE3F2776586}" type="slidenum">
              <a:rPr b="0" lang="ru-RU" sz="800" spc="-1" strike="noStrike">
                <a:solidFill>
                  <a:srgbClr val="687f00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87" name="Дата 1"/>
          <p:cNvSpPr/>
          <p:nvPr/>
        </p:nvSpPr>
        <p:spPr>
          <a:xfrm>
            <a:off x="431640" y="6629400"/>
            <a:ext cx="100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22 июля 2012 г.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sp>
        <p:nvSpPr>
          <p:cNvPr id="388" name="Нижний колонтитул 2"/>
          <p:cNvSpPr/>
          <p:nvPr/>
        </p:nvSpPr>
        <p:spPr>
          <a:xfrm>
            <a:off x="1638360" y="662940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687f00"/>
                </a:solidFill>
                <a:latin typeface="Corbel"/>
              </a:rPr>
              <a:t>Текст нижнего колонтитула</a:t>
            </a:r>
            <a:endParaRPr b="0" lang="en-US" sz="800" spc="-1" strike="noStrike">
              <a:solidFill>
                <a:srgbClr val="4d3e2f"/>
              </a:solidFill>
              <a:latin typeface="Arial"/>
            </a:endParaRPr>
          </a:p>
        </p:txBody>
      </p:sp>
      <p:pic>
        <p:nvPicPr>
          <p:cNvPr id="389" name="Picture 2" descr="Посёлок Саларьево, Россия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6T09:07:17Z</dcterms:created>
  <dc:creator/>
  <dc:description/>
  <dc:language>en-US</dc:language>
  <cp:lastModifiedBy/>
  <dcterms:modified xsi:type="dcterms:W3CDTF">2021-03-30T09:26:2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988899991</vt:lpwstr>
  </property>
</Properties>
</file>