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12193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d3e2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3e2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move the slide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d3e2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4F34-A8D9-4BC7-ABBF-04F1EE1126BE}" type="slidenum">
              <a:rPr b="0" lang="ru-RU" sz="1200" spc="-1" strike="noStrike">
                <a:solidFill>
                  <a:srgbClr val="4d3e2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86EF-BE5F-41EA-A6AC-787D5A708378}" type="slidenum">
              <a:rPr b="0" lang="ru-RU" sz="1200" spc="-1" strike="noStrike">
                <a:solidFill>
                  <a:srgbClr val="4d3e2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E3D1-6FDC-496F-9A49-8B08D9554EB3}" type="slidenum">
              <a:rPr b="0" lang="ru-RU" sz="1200" spc="-1" strike="noStrike">
                <a:solidFill>
                  <a:srgbClr val="4d3e2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7B95-811B-4CE4-839B-3BAC4B8BB65A}" type="slidenum">
              <a:rPr b="0" lang="ru-RU" sz="1200" spc="-1" strike="noStrike">
                <a:solidFill>
                  <a:srgbClr val="4d3e2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085E-3BCE-4B6E-AD93-13E451B91B78}" type="slidenum">
              <a:rPr b="0" lang="ru-RU" sz="1200" spc="-1" strike="noStrike">
                <a:solidFill>
                  <a:srgbClr val="4d3e2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B7711-79C7-4A70-BC47-6C7C56F2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E37C-C85F-40DD-9726-C802D614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B5DB-2729-425D-A0A3-0B44C36B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848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74756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0940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7848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74756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7F8D6-DD69-43A0-A12D-E3014D76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4AFB3-09B8-4076-874F-1B4116AA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1223C-40EC-4E9B-A757-F4AB5120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D64C7-997E-4666-A1F8-52D281BD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F231B-B561-441B-BA47-603B3166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8A04F-5CE9-4897-A133-6BEEFE0B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09400" y="276120"/>
            <a:ext cx="93726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DEC80-0C68-421A-82D8-F1952196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CA831-806D-48F1-8E86-9B990D91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40C1-D7BB-4337-9C2D-076CB481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4D3C9-6981-4E0F-800A-5A258C58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87320-0D29-495D-BC3B-217E2BE6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2807D-E03E-4F4F-840E-4FCC9975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C1A3E-0578-4BDD-BB11-62343B57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848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4756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0940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7848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74756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56AD9-82E1-42BF-ACE6-E1E0CEAC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12FA-D906-4076-831D-CF09DE8A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09400" y="276120"/>
            <a:ext cx="93726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848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74756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40940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57848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74756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A83E8-682B-4DE0-AFB3-CF611F55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CAC89-9C32-48DF-A0A1-AB38624B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67474-50A9-4CD5-90F6-1200FF0A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5E9C-7E74-4FE4-B968-9B84DB36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D97D6-E2DD-413F-99DB-9D95F52F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99651-992F-46B9-B980-60F083DE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409400" y="276120"/>
            <a:ext cx="93726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FE252-5A53-4567-9105-8047F361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3E769-2BE8-47F6-8272-978245F0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59FE3-C978-4AF1-8B87-4607B10E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80C0B-FB3B-477C-BBE3-9FC5904C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194FE-2CA3-4E7E-8F16-7C365543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C6C2F-355E-43AB-A6A8-147D61BD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848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74756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40940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57848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774756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D7E52-5C3E-413B-83B8-5610652D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81C03-8744-43DF-8FA4-5D21825F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409400" y="276120"/>
            <a:ext cx="93726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09400" y="276120"/>
            <a:ext cx="93726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6D3F-8CEC-4D38-8C4A-13AB262A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848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74756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40940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57848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74756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409400" y="276120"/>
            <a:ext cx="93726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045E-1C7D-4E8E-8B96-25518FDA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848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74756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40940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457848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774756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1F89D-3032-4FA2-98A9-A599E971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160C7-8DCA-448E-AF8E-AA907214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BB363-D3EF-4726-88FE-44644666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E7E63-C52E-44F6-9F4E-6229E8BE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CB3E2-B022-496D-B0D2-6ADAE651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409400" y="276120"/>
            <a:ext cx="93726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118A6-344C-4BE7-AFA6-093F333B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EE086-B5EA-414B-AFEA-63DDD52F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3BCD-4502-4720-9C03-BC15BEE4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0E739-02B8-4997-89C7-0EC95585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B58FD-65D9-4312-98B9-5B08E85D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F0AB8-BB5D-4F72-A989-E3FE31F0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D2AB0-4108-44E1-B7A0-D5C90909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848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74756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40940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57848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774756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EB0F2-7028-49D7-B95B-C91295D2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7F81-70A5-43CB-844A-C51470AF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409400" y="276120"/>
            <a:ext cx="93726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848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74756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40940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457848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774756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6629400"/>
            <a:ext cx="1500120" cy="228600"/>
          </a:xfrm>
          <a:prstGeom prst="rect">
            <a:avLst/>
          </a:prstGeom>
          <a:gradFill rotWithShape="0">
            <a:gsLst>
              <a:gs pos="0">
                <a:srgbClr val="f6ffcc"/>
              </a:gs>
              <a:gs pos="100000">
                <a:srgbClr val="f6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1" name="Прямоугольник 10"/>
          <p:cNvSpPr/>
          <p:nvPr/>
        </p:nvSpPr>
        <p:spPr>
          <a:xfrm>
            <a:off x="1609560" y="6629400"/>
            <a:ext cx="10582560" cy="228600"/>
          </a:xfrm>
          <a:prstGeom prst="rect">
            <a:avLst/>
          </a:prstGeom>
          <a:gradFill rotWithShape="0">
            <a:gsLst>
              <a:gs pos="0">
                <a:srgbClr val="e9ff88"/>
              </a:gs>
              <a:gs pos="100000">
                <a:srgbClr val="e9ff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edit the title text format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1" marL="43812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2" marL="6764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3" marL="9050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4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5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6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0" y="6629040"/>
            <a:ext cx="411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E727-9761-476B-81B5-69A145C82739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431280" y="6629040"/>
            <a:ext cx="100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1638360" y="6629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6629400"/>
            <a:ext cx="1500120" cy="228600"/>
          </a:xfrm>
          <a:prstGeom prst="rect">
            <a:avLst/>
          </a:prstGeom>
          <a:gradFill rotWithShape="0">
            <a:gsLst>
              <a:gs pos="0">
                <a:srgbClr val="f6ffcc"/>
              </a:gs>
              <a:gs pos="100000">
                <a:srgbClr val="f6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1609560" y="6629400"/>
            <a:ext cx="10582560" cy="228600"/>
          </a:xfrm>
          <a:prstGeom prst="rect">
            <a:avLst/>
          </a:prstGeom>
          <a:gradFill rotWithShape="0">
            <a:gsLst>
              <a:gs pos="0">
                <a:srgbClr val="e9ff88"/>
              </a:gs>
              <a:gs pos="100000">
                <a:srgbClr val="e9ff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edit the title text format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1" marL="43812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2" marL="6764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3" marL="9050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4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5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6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411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8472-F77A-42A5-B42F-3F274A92B55C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5"/>
          </p:nvPr>
        </p:nvSpPr>
        <p:spPr>
          <a:xfrm>
            <a:off x="431280" y="6629040"/>
            <a:ext cx="100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1638360" y="6629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8" descr="Кучевые белые облака на фоне синего неба"/>
          <p:cNvPicPr/>
          <p:nvPr/>
        </p:nvPicPr>
        <p:blipFill>
          <a:blip r:embed="rId2"/>
          <a:stretch/>
        </p:blipFill>
        <p:spPr>
          <a:xfrm>
            <a:off x="0" y="2057400"/>
            <a:ext cx="149076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1"/>
          <p:cNvSpPr/>
          <p:nvPr/>
        </p:nvSpPr>
        <p:spPr>
          <a:xfrm>
            <a:off x="1600200" y="0"/>
            <a:ext cx="5029200" cy="5943600"/>
          </a:xfrm>
          <a:prstGeom prst="rect">
            <a:avLst/>
          </a:prstGeom>
          <a:solidFill>
            <a:srgbClr val="8b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88" name="Рисунок 12" descr="Крупный план цветка"/>
          <p:cNvPicPr/>
          <p:nvPr/>
        </p:nvPicPr>
        <p:blipFill>
          <a:blip r:embed="rId3"/>
          <a:stretch/>
        </p:blipFill>
        <p:spPr>
          <a:xfrm>
            <a:off x="6738840" y="2057400"/>
            <a:ext cx="2060640" cy="38862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3" descr="Волны"/>
          <p:cNvPicPr/>
          <p:nvPr/>
        </p:nvPicPr>
        <p:blipFill>
          <a:blip r:embed="rId4"/>
          <a:stretch/>
        </p:blipFill>
        <p:spPr>
          <a:xfrm>
            <a:off x="8908920" y="2057400"/>
            <a:ext cx="3283200" cy="3886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edit the title text format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1" marL="43812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2" marL="6764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3" marL="9050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4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5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6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9"/>
          <p:cNvSpPr/>
          <p:nvPr/>
        </p:nvSpPr>
        <p:spPr>
          <a:xfrm>
            <a:off x="0" y="6629400"/>
            <a:ext cx="1500120" cy="228600"/>
          </a:xfrm>
          <a:prstGeom prst="rect">
            <a:avLst/>
          </a:prstGeom>
          <a:gradFill rotWithShape="0">
            <a:gsLst>
              <a:gs pos="0">
                <a:srgbClr val="f6ffcc"/>
              </a:gs>
              <a:gs pos="100000">
                <a:srgbClr val="f6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129" name="Прямоугольник 10"/>
          <p:cNvSpPr/>
          <p:nvPr/>
        </p:nvSpPr>
        <p:spPr>
          <a:xfrm>
            <a:off x="1609560" y="6629400"/>
            <a:ext cx="10582560" cy="228600"/>
          </a:xfrm>
          <a:prstGeom prst="rect">
            <a:avLst/>
          </a:prstGeom>
          <a:gradFill rotWithShape="0">
            <a:gsLst>
              <a:gs pos="0">
                <a:srgbClr val="e9ff88"/>
              </a:gs>
              <a:gs pos="100000">
                <a:srgbClr val="e9ff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130" name="Содержимое 3" descr="photodune-1895990-green-grass-l.jpg"/>
          <p:cNvPicPr/>
          <p:nvPr/>
        </p:nvPicPr>
        <p:blipFill>
          <a:blip r:embed="rId2"/>
          <a:srcRect l="0" t="0" r="0" b="15627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Пятиугольник 11"/>
          <p:cNvSpPr/>
          <p:nvPr/>
        </p:nvSpPr>
        <p:spPr>
          <a:xfrm>
            <a:off x="0" y="457200"/>
            <a:ext cx="1008000" cy="4968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77" y="0"/>
                </a:lnTo>
                <a:lnTo>
                  <a:pt x="21600" y="10800"/>
                </a:lnTo>
                <a:lnTo>
                  <a:pt x="162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edit the title text format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1" marL="43812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2" marL="6764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3" marL="9050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4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5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6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31280" y="6629040"/>
            <a:ext cx="100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1638360" y="6629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0" y="6629040"/>
            <a:ext cx="411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5F8E-5F68-4363-BE23-897374CB808D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8"/>
          <p:cNvSpPr/>
          <p:nvPr/>
        </p:nvSpPr>
        <p:spPr>
          <a:xfrm>
            <a:off x="1600200" y="2058840"/>
            <a:ext cx="7199280" cy="3886200"/>
          </a:xfrm>
          <a:prstGeom prst="rect">
            <a:avLst/>
          </a:prstGeom>
          <a:solidFill>
            <a:srgbClr val="8b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174" name="Рисунок 11" descr="Волны"/>
          <p:cNvPicPr/>
          <p:nvPr/>
        </p:nvPicPr>
        <p:blipFill>
          <a:blip r:embed="rId2"/>
          <a:stretch/>
        </p:blipFill>
        <p:spPr>
          <a:xfrm>
            <a:off x="8908920" y="2058840"/>
            <a:ext cx="3283200" cy="38862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2" descr="Крупный план зеленых насаждений"/>
          <p:cNvPicPr/>
          <p:nvPr/>
        </p:nvPicPr>
        <p:blipFill>
          <a:blip r:embed="rId3"/>
          <a:stretch/>
        </p:blipFill>
        <p:spPr>
          <a:xfrm>
            <a:off x="0" y="2058840"/>
            <a:ext cx="1490760" cy="38862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edit the title text format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1" marL="43812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2" marL="6764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3" marL="9050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4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5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6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9"/>
          <p:cNvSpPr/>
          <p:nvPr/>
        </p:nvSpPr>
        <p:spPr>
          <a:xfrm>
            <a:off x="0" y="6629400"/>
            <a:ext cx="1500120" cy="228600"/>
          </a:xfrm>
          <a:prstGeom prst="rect">
            <a:avLst/>
          </a:prstGeom>
          <a:gradFill rotWithShape="0">
            <a:gsLst>
              <a:gs pos="0">
                <a:srgbClr val="f6ffcc"/>
              </a:gs>
              <a:gs pos="100000">
                <a:srgbClr val="f6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215" name="Прямоугольник 10"/>
          <p:cNvSpPr/>
          <p:nvPr/>
        </p:nvSpPr>
        <p:spPr>
          <a:xfrm>
            <a:off x="1609560" y="6629400"/>
            <a:ext cx="10582560" cy="228600"/>
          </a:xfrm>
          <a:prstGeom prst="rect">
            <a:avLst/>
          </a:prstGeom>
          <a:gradFill rotWithShape="0">
            <a:gsLst>
              <a:gs pos="0">
                <a:srgbClr val="e9ff88"/>
              </a:gs>
              <a:gs pos="100000">
                <a:srgbClr val="e9ff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216" name="Рисунок 8" descr="Кучевые белые облака на фоне синего неба"/>
          <p:cNvPicPr/>
          <p:nvPr/>
        </p:nvPicPr>
        <p:blipFill>
          <a:blip r:embed="rId2"/>
          <a:stretch/>
        </p:blipFill>
        <p:spPr>
          <a:xfrm>
            <a:off x="0" y="2057400"/>
            <a:ext cx="1490760" cy="388620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11"/>
          <p:cNvSpPr/>
          <p:nvPr/>
        </p:nvSpPr>
        <p:spPr>
          <a:xfrm>
            <a:off x="1600200" y="0"/>
            <a:ext cx="5029200" cy="5943600"/>
          </a:xfrm>
          <a:prstGeom prst="rect">
            <a:avLst/>
          </a:prstGeom>
          <a:solidFill>
            <a:srgbClr val="8b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218" name="Рисунок 12" descr="Крупный план цветка"/>
          <p:cNvPicPr/>
          <p:nvPr/>
        </p:nvPicPr>
        <p:blipFill>
          <a:blip r:embed="rId3"/>
          <a:stretch/>
        </p:blipFill>
        <p:spPr>
          <a:xfrm>
            <a:off x="6738840" y="2057400"/>
            <a:ext cx="2060640" cy="38862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3" descr="Волны"/>
          <p:cNvPicPr/>
          <p:nvPr/>
        </p:nvPicPr>
        <p:blipFill>
          <a:blip r:embed="rId4"/>
          <a:stretch/>
        </p:blipFill>
        <p:spPr>
          <a:xfrm>
            <a:off x="8908920" y="2057400"/>
            <a:ext cx="3283200" cy="38862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edit the title text format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1" marL="43812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2" marL="6764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3" marL="9050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4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5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6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9"/>
          <p:cNvSpPr/>
          <p:nvPr/>
        </p:nvSpPr>
        <p:spPr>
          <a:xfrm>
            <a:off x="0" y="6629400"/>
            <a:ext cx="1500120" cy="228600"/>
          </a:xfrm>
          <a:prstGeom prst="rect">
            <a:avLst/>
          </a:prstGeom>
          <a:gradFill rotWithShape="0">
            <a:gsLst>
              <a:gs pos="0">
                <a:srgbClr val="f6ffcc"/>
              </a:gs>
              <a:gs pos="100000">
                <a:srgbClr val="f6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259" name="Прямоугольник 10"/>
          <p:cNvSpPr/>
          <p:nvPr/>
        </p:nvSpPr>
        <p:spPr>
          <a:xfrm>
            <a:off x="1609560" y="6629400"/>
            <a:ext cx="10582560" cy="228600"/>
          </a:xfrm>
          <a:prstGeom prst="rect">
            <a:avLst/>
          </a:prstGeom>
          <a:gradFill rotWithShape="0">
            <a:gsLst>
              <a:gs pos="0">
                <a:srgbClr val="e9ff88"/>
              </a:gs>
              <a:gs pos="100000">
                <a:srgbClr val="e9ff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260" name="Picture 2" descr="D:\Экоурок\Материалы для урока\Логотип (растровый).jpg"/>
          <p:cNvPicPr/>
          <p:nvPr/>
        </p:nvPicPr>
        <p:blipFill>
          <a:blip r:embed="rId2"/>
          <a:stretch/>
        </p:blipFill>
        <p:spPr>
          <a:xfrm>
            <a:off x="9975960" y="0"/>
            <a:ext cx="1838160" cy="1300320"/>
          </a:xfrm>
          <a:prstGeom prst="rect">
            <a:avLst/>
          </a:prstGeom>
          <a:ln w="0">
            <a:noFill/>
          </a:ln>
        </p:spPr>
      </p:pic>
      <p:sp>
        <p:nvSpPr>
          <p:cNvPr id="261" name="Пятиугольник 11"/>
          <p:cNvSpPr/>
          <p:nvPr/>
        </p:nvSpPr>
        <p:spPr>
          <a:xfrm>
            <a:off x="0" y="457200"/>
            <a:ext cx="1008000" cy="4968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77" y="0"/>
                </a:lnTo>
                <a:lnTo>
                  <a:pt x="21600" y="10800"/>
                </a:lnTo>
                <a:lnTo>
                  <a:pt x="162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edit the title text format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1" marL="43812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2" marL="6764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3" marL="9050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4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5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6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0"/>
          </p:nvPr>
        </p:nvSpPr>
        <p:spPr>
          <a:xfrm>
            <a:off x="431280" y="6629040"/>
            <a:ext cx="100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1"/>
          </p:nvPr>
        </p:nvSpPr>
        <p:spPr>
          <a:xfrm>
            <a:off x="1638360" y="6629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2"/>
          </p:nvPr>
        </p:nvSpPr>
        <p:spPr>
          <a:xfrm>
            <a:off x="0" y="6629040"/>
            <a:ext cx="411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E406-FE70-4263-AD3F-12A7F82F8684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9"/>
          <p:cNvSpPr/>
          <p:nvPr/>
        </p:nvSpPr>
        <p:spPr>
          <a:xfrm>
            <a:off x="0" y="6629400"/>
            <a:ext cx="1500120" cy="228600"/>
          </a:xfrm>
          <a:prstGeom prst="rect">
            <a:avLst/>
          </a:prstGeom>
          <a:gradFill rotWithShape="0">
            <a:gsLst>
              <a:gs pos="0">
                <a:srgbClr val="f6ffcc"/>
              </a:gs>
              <a:gs pos="100000">
                <a:srgbClr val="f6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1609560" y="6629400"/>
            <a:ext cx="10582560" cy="228600"/>
          </a:xfrm>
          <a:prstGeom prst="rect">
            <a:avLst/>
          </a:prstGeom>
          <a:gradFill rotWithShape="0">
            <a:gsLst>
              <a:gs pos="0">
                <a:srgbClr val="e9ff88"/>
              </a:gs>
              <a:gs pos="100000">
                <a:srgbClr val="e9ff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05" name="Прямоугольник 8"/>
          <p:cNvSpPr/>
          <p:nvPr/>
        </p:nvSpPr>
        <p:spPr>
          <a:xfrm>
            <a:off x="1600200" y="2058840"/>
            <a:ext cx="7199280" cy="3886200"/>
          </a:xfrm>
          <a:prstGeom prst="rect">
            <a:avLst/>
          </a:prstGeom>
          <a:solidFill>
            <a:srgbClr val="8b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306" name="Рисунок 11" descr="Волны"/>
          <p:cNvPicPr/>
          <p:nvPr/>
        </p:nvPicPr>
        <p:blipFill>
          <a:blip r:embed="rId2"/>
          <a:stretch/>
        </p:blipFill>
        <p:spPr>
          <a:xfrm>
            <a:off x="8908920" y="2058840"/>
            <a:ext cx="3283200" cy="388620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12" descr="Крупный план зеленых насаждений"/>
          <p:cNvPicPr/>
          <p:nvPr/>
        </p:nvPicPr>
        <p:blipFill>
          <a:blip r:embed="rId3"/>
          <a:stretch/>
        </p:blipFill>
        <p:spPr>
          <a:xfrm>
            <a:off x="0" y="2058840"/>
            <a:ext cx="1490760" cy="38862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edit the title text format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1" marL="43812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2" marL="6764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3" marL="9050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4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5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6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55920" y="1832040"/>
            <a:ext cx="517176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rbel"/>
              </a:rPr>
              <a:t>«На этой земле жить тебе и мне!»</a:t>
            </a:r>
            <a:br>
              <a:rPr sz="7200"/>
            </a:b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( внеклассное мероприятие)</a:t>
            </a:r>
            <a:endParaRPr b="0" lang="en-US" sz="28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750680" y="5381640"/>
            <a:ext cx="484668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Гаврилова Ольга Геннадьевна, </a:t>
            </a:r>
            <a:endParaRPr b="0" lang="en-US" sz="1800" spc="-1" strike="noStrike">
              <a:solidFill>
                <a:srgbClr val="4d3e2f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читель химии МБОУ  «Пинежская СШ №117»</a:t>
            </a:r>
            <a:endParaRPr b="0" lang="en-US" sz="18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Номер слайда 1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7318-0ECF-4573-A14B-9694959EB7C2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91" name="Дата 2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92" name="Нижний колонтитул 3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393" name="Picture 2" descr="http://i.mycdn.me/i?r=AzEPZsRbOZEKgBhR0XGMT1Rkm6b1iguUGx-LN5SveMLDCKaKTM5SRkZCeTgDn6uOyic"/>
          <p:cNvPicPr/>
          <p:nvPr/>
        </p:nvPicPr>
        <p:blipFill>
          <a:blip r:embed="rId1"/>
          <a:stretch/>
        </p:blipFill>
        <p:spPr>
          <a:xfrm>
            <a:off x="0" y="0"/>
            <a:ext cx="12192120" cy="691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50680" y="1832040"/>
            <a:ext cx="484668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rbel"/>
              </a:rPr>
              <a:t>На этой земле жить тебе и мне! </a:t>
            </a:r>
            <a:endParaRPr b="0" lang="en-US" sz="7200" spc="-1" strike="noStrike">
              <a:solidFill>
                <a:srgbClr val="8baa00"/>
              </a:solidFill>
              <a:latin typeface="Corbel"/>
            </a:endParaRPr>
          </a:p>
        </p:txBody>
      </p:sp>
    </p:spTree>
  </p:cSld>
  <p:transition spd="med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Прямоугольная выноска 25"/>
          <p:cNvSpPr/>
          <p:nvPr/>
        </p:nvSpPr>
        <p:spPr>
          <a:xfrm>
            <a:off x="0" y="0"/>
            <a:ext cx="2347920" cy="3726000"/>
          </a:xfrm>
          <a:prstGeom prst="wedgeRectCallout">
            <a:avLst>
              <a:gd name="adj1" fmla="val 63601"/>
              <a:gd name="adj2" fmla="val -19365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eiryo"/>
              </a:rPr>
              <a:t>Сколько времени разлагается бытовой мусор? 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96" name="Прямоугольная выноска 27"/>
          <p:cNvSpPr/>
          <p:nvPr/>
        </p:nvSpPr>
        <p:spPr>
          <a:xfrm>
            <a:off x="7972560" y="609480"/>
            <a:ext cx="2141280" cy="1451160"/>
          </a:xfrm>
          <a:prstGeom prst="wedgeRectCallout">
            <a:avLst>
              <a:gd name="adj1" fmla="val 69611"/>
              <a:gd name="adj2" fmla="val -22120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от 2 до 10 лет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97" name="Прямоугольная выноска 28"/>
          <p:cNvSpPr/>
          <p:nvPr/>
        </p:nvSpPr>
        <p:spPr>
          <a:xfrm>
            <a:off x="5245200" y="2263680"/>
            <a:ext cx="2143080" cy="1451160"/>
          </a:xfrm>
          <a:prstGeom prst="wedgeRectCallout">
            <a:avLst>
              <a:gd name="adj1" fmla="val 67703"/>
              <a:gd name="adj2" fmla="val 19259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eiryo"/>
              </a:rPr>
              <a:t>500 лет</a:t>
            </a: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98" name="Прямоугольная выноска 29"/>
          <p:cNvSpPr/>
          <p:nvPr/>
        </p:nvSpPr>
        <p:spPr>
          <a:xfrm>
            <a:off x="2681280" y="2252520"/>
            <a:ext cx="2143080" cy="1451160"/>
          </a:xfrm>
          <a:prstGeom prst="wedgeRectCallout">
            <a:avLst>
              <a:gd name="adj1" fmla="val 69611"/>
              <a:gd name="adj2" fmla="val 19259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100 лет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99" name="Прямоугольная выноска 30"/>
          <p:cNvSpPr/>
          <p:nvPr/>
        </p:nvSpPr>
        <p:spPr>
          <a:xfrm>
            <a:off x="2695680" y="547560"/>
            <a:ext cx="2143080" cy="1451160"/>
          </a:xfrm>
          <a:prstGeom prst="wedgeRectCallout">
            <a:avLst>
              <a:gd name="adj1" fmla="val 67703"/>
              <a:gd name="adj2" fmla="val -20240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2-5 недель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0" name="Прямоугольная выноска 32"/>
          <p:cNvSpPr/>
          <p:nvPr/>
        </p:nvSpPr>
        <p:spPr>
          <a:xfrm>
            <a:off x="5356080" y="592200"/>
            <a:ext cx="2143440" cy="1450800"/>
          </a:xfrm>
          <a:prstGeom prst="wedgeRectCallout">
            <a:avLst>
              <a:gd name="adj1" fmla="val 68337"/>
              <a:gd name="adj2" fmla="val -18361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1 год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1" name="Прямоугольная выноска 9"/>
          <p:cNvSpPr/>
          <p:nvPr/>
        </p:nvSpPr>
        <p:spPr>
          <a:xfrm>
            <a:off x="7989840" y="2320920"/>
            <a:ext cx="2143080" cy="1451160"/>
          </a:xfrm>
          <a:prstGeom prst="wedgeRectCallout">
            <a:avLst>
              <a:gd name="adj1" fmla="val 67703"/>
              <a:gd name="adj2" fmla="val 19259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eiryo"/>
              </a:rPr>
              <a:t>более 1000 лет</a:t>
            </a: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ая выноска 25"/>
          <p:cNvSpPr/>
          <p:nvPr/>
        </p:nvSpPr>
        <p:spPr>
          <a:xfrm>
            <a:off x="0" y="0"/>
            <a:ext cx="2347920" cy="3726000"/>
          </a:xfrm>
          <a:prstGeom prst="wedgeRectCallout">
            <a:avLst>
              <a:gd name="adj1" fmla="val 63601"/>
              <a:gd name="adj2" fmla="val -19365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eiryo"/>
              </a:rPr>
              <a:t>Сколько времени разлагается бытовой мусор? 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3" name="Прямоугольная выноска 26"/>
          <p:cNvSpPr/>
          <p:nvPr/>
        </p:nvSpPr>
        <p:spPr>
          <a:xfrm>
            <a:off x="2770200" y="4081320"/>
            <a:ext cx="6837480" cy="2606760"/>
          </a:xfrm>
          <a:prstGeom prst="wedgeRectCallout">
            <a:avLst>
              <a:gd name="adj1" fmla="val 56287"/>
              <a:gd name="adj2" fmla="val -21194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eiryo"/>
              </a:rPr>
              <a:t>На каждого жителя страны приходится более 400 кг мусора в год.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eiryo"/>
              </a:rPr>
              <a:t>Общая численность населения 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eiryo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Meiryo"/>
              </a:rPr>
              <a:t>п.Пинега на 2020 год составляет приблизительно 3,5 тысяч человек.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eiryo"/>
              </a:rPr>
              <a:t>???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4" name="Прямоугольная выноска 27"/>
          <p:cNvSpPr/>
          <p:nvPr/>
        </p:nvSpPr>
        <p:spPr>
          <a:xfrm>
            <a:off x="7972560" y="609480"/>
            <a:ext cx="2141280" cy="1451160"/>
          </a:xfrm>
          <a:prstGeom prst="wedgeRectCallout">
            <a:avLst>
              <a:gd name="adj1" fmla="val 69611"/>
              <a:gd name="adj2" fmla="val -22120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БУМАГА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от 2 до 10 лет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5" name="Прямоугольная выноска 28"/>
          <p:cNvSpPr/>
          <p:nvPr/>
        </p:nvSpPr>
        <p:spPr>
          <a:xfrm>
            <a:off x="5245200" y="2263680"/>
            <a:ext cx="2143080" cy="1451160"/>
          </a:xfrm>
          <a:prstGeom prst="wedgeRectCallout">
            <a:avLst>
              <a:gd name="adj1" fmla="val 67703"/>
              <a:gd name="adj2" fmla="val 19259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eiryo"/>
              </a:rPr>
              <a:t>ПЛАСТИКОВАЯ БУТЫЛКА</a:t>
            </a: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eiryo"/>
              </a:rPr>
              <a:t>500 лет</a:t>
            </a: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6" name="Прямоугольная выноска 29"/>
          <p:cNvSpPr/>
          <p:nvPr/>
        </p:nvSpPr>
        <p:spPr>
          <a:xfrm>
            <a:off x="2681280" y="2252520"/>
            <a:ext cx="2143080" cy="1451160"/>
          </a:xfrm>
          <a:prstGeom prst="wedgeRectCallout">
            <a:avLst>
              <a:gd name="adj1" fmla="val 69611"/>
              <a:gd name="adj2" fmla="val 19259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ЖЕСТЯНАЯ БАНКА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100 лет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7" name="Прямоугольная выноска 30"/>
          <p:cNvSpPr/>
          <p:nvPr/>
        </p:nvSpPr>
        <p:spPr>
          <a:xfrm>
            <a:off x="2695680" y="547560"/>
            <a:ext cx="2143080" cy="1451160"/>
          </a:xfrm>
          <a:prstGeom prst="wedgeRectCallout">
            <a:avLst>
              <a:gd name="adj1" fmla="val 67703"/>
              <a:gd name="adj2" fmla="val -20240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ПИЩЕВЫЕ ОТХОДЫ 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2-5 недель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8" name="Прямоугольная выноска 31"/>
          <p:cNvSpPr/>
          <p:nvPr/>
        </p:nvSpPr>
        <p:spPr>
          <a:xfrm>
            <a:off x="7783560" y="2281320"/>
            <a:ext cx="2143080" cy="1450800"/>
          </a:xfrm>
          <a:prstGeom prst="wedgeRectCallout">
            <a:avLst>
              <a:gd name="adj1" fmla="val -19560"/>
              <a:gd name="adj2" fmla="val 72861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eiryo"/>
              </a:rPr>
              <a:t>СТЕКЛО </a:t>
            </a: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eiryo"/>
              </a:rPr>
              <a:t>более 1000 лет</a:t>
            </a: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9" name="Прямоугольная выноска 32"/>
          <p:cNvSpPr/>
          <p:nvPr/>
        </p:nvSpPr>
        <p:spPr>
          <a:xfrm>
            <a:off x="5356080" y="592200"/>
            <a:ext cx="2143440" cy="1450800"/>
          </a:xfrm>
          <a:prstGeom prst="wedgeRectCallout">
            <a:avLst>
              <a:gd name="adj1" fmla="val 68337"/>
              <a:gd name="adj2" fmla="val -18361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ШЕРСТЯНОЙ НОСОК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1 год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50720" y="290160"/>
            <a:ext cx="937260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8baa00"/>
                </a:solidFill>
                <a:latin typeface="Corbel"/>
              </a:rPr>
              <a:t>Описание проекта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pic>
        <p:nvPicPr>
          <p:cNvPr id="411" name="Содержимое 3" descr="photodune-1895990-green-grass-l.jpg"/>
          <p:cNvPicPr/>
          <p:nvPr/>
        </p:nvPicPr>
        <p:blipFill>
          <a:blip r:embed="rId1"/>
          <a:srcRect l="0" t="0" r="0" b="15627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ая выноска 4"/>
          <p:cNvSpPr/>
          <p:nvPr/>
        </p:nvSpPr>
        <p:spPr>
          <a:xfrm>
            <a:off x="0" y="0"/>
            <a:ext cx="3535200" cy="1473120"/>
          </a:xfrm>
          <a:prstGeom prst="wedgeRectCallout">
            <a:avLst>
              <a:gd name="adj1" fmla="val 25620"/>
              <a:gd name="adj2" fmla="val 39453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eiryo"/>
              </a:rPr>
              <a:t>Что делать </a:t>
            </a:r>
            <a:endParaRPr b="0" lang="en-US" sz="3200" spc="-1" strike="noStrike">
              <a:solidFill>
                <a:srgbClr val="4d3e2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eiryo"/>
              </a:rPr>
              <a:t>с отходами? </a:t>
            </a:r>
            <a:endParaRPr b="0" lang="en-US" sz="32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413" name="Схема 5" descr=""/>
          <p:cNvPicPr/>
          <p:nvPr/>
        </p:nvPicPr>
        <p:blipFill>
          <a:blip r:embed="rId2"/>
          <a:stretch/>
        </p:blipFill>
        <p:spPr>
          <a:xfrm>
            <a:off x="560520" y="1835280"/>
            <a:ext cx="10856880" cy="323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1409400" y="1564920"/>
            <a:ext cx="9372600" cy="4621320"/>
          </a:xfrm>
          <a:prstGeom prst="rect">
            <a:avLst/>
          </a:prstGeom>
          <a:ln w="0">
            <a:noFill/>
          </a:ln>
        </p:spPr>
      </p:pic>
      <p:sp>
        <p:nvSpPr>
          <p:cNvPr id="416" name="Дата 3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17" name="Нижний колонтитул 4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18" name="Номер слайда 5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951C-C4F2-410E-8FF7-73A72E9DF9B5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419" name="Picture 2" descr="169906_900.jpg"/>
          <p:cNvPicPr/>
          <p:nvPr/>
        </p:nvPicPr>
        <p:blipFill>
          <a:blip r:embed="rId2"/>
          <a:stretch/>
        </p:blipFill>
        <p:spPr>
          <a:xfrm>
            <a:off x="0" y="0"/>
            <a:ext cx="12192120" cy="8142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102498_900.jpg"/>
          <p:cNvPicPr/>
          <p:nvPr/>
        </p:nvPicPr>
        <p:blipFill>
          <a:blip r:embed="rId3"/>
          <a:stretch/>
        </p:blipFill>
        <p:spPr>
          <a:xfrm>
            <a:off x="0" y="-368280"/>
            <a:ext cx="12192120" cy="812808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ая выноска 8"/>
          <p:cNvSpPr/>
          <p:nvPr/>
        </p:nvSpPr>
        <p:spPr>
          <a:xfrm>
            <a:off x="5049720" y="4408560"/>
            <a:ext cx="2433600" cy="2627280"/>
          </a:xfrm>
          <a:prstGeom prst="wedgeRectCallout">
            <a:avLst>
              <a:gd name="adj1" fmla="val 49902"/>
              <a:gd name="adj2" fmla="val -6555"/>
            </a:avLst>
          </a:prstGeom>
          <a:solidFill>
            <a:srgbClr val="ffc0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e2f"/>
                </a:solidFill>
                <a:latin typeface="Meiryo"/>
              </a:rPr>
              <a:t>Готовы ли вы сортировать бытовой 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e2f"/>
                </a:solidFill>
                <a:latin typeface="Meiryo"/>
              </a:rPr>
              <a:t>мусор?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e2f"/>
                </a:solidFill>
                <a:latin typeface="Meiryo"/>
              </a:rPr>
              <a:t> 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50720" y="290160"/>
            <a:ext cx="937260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8baa00"/>
                </a:solidFill>
                <a:latin typeface="Corbel"/>
              </a:rPr>
              <a:t>Описание проекта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pic>
        <p:nvPicPr>
          <p:cNvPr id="423" name="Содержимое 3" descr="photodune-1895990-green-grass-l.jpg"/>
          <p:cNvPicPr/>
          <p:nvPr/>
        </p:nvPicPr>
        <p:blipFill>
          <a:blip r:embed="rId1"/>
          <a:srcRect l="0" t="0" r="0" b="15627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ая выноска 4"/>
          <p:cNvSpPr/>
          <p:nvPr/>
        </p:nvSpPr>
        <p:spPr>
          <a:xfrm>
            <a:off x="0" y="0"/>
            <a:ext cx="12192120" cy="777960"/>
          </a:xfrm>
          <a:prstGeom prst="wedgeRectCallout">
            <a:avLst>
              <a:gd name="adj1" fmla="val 25620"/>
              <a:gd name="adj2" fmla="val 49981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eiryo"/>
              </a:rPr>
              <a:t>Комплексный подход к обращению с отходами</a:t>
            </a:r>
            <a:endParaRPr b="0" lang="en-US" sz="32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425" name="Схема 5" descr=""/>
          <p:cNvPicPr/>
          <p:nvPr/>
        </p:nvPicPr>
        <p:blipFill>
          <a:blip r:embed="rId2"/>
          <a:stretch/>
        </p:blipFill>
        <p:spPr>
          <a:xfrm>
            <a:off x="914400" y="1285920"/>
            <a:ext cx="10558440" cy="448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314000" y="982440"/>
            <a:ext cx="1005372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3e2f"/>
                </a:solidFill>
                <a:latin typeface="Corbel"/>
              </a:rPr>
              <a:t>« Самый  сильный в мире магнит -           …            .        Бросьте его в чистом месте и посмотрите, сколько всего к нему потянется»</a:t>
            </a:r>
            <a:endParaRPr b="0" lang="en-US" sz="3600" spc="-1" strike="noStrike">
              <a:solidFill>
                <a:srgbClr val="4d3e2f"/>
              </a:solidFill>
              <a:latin typeface="Corbel"/>
            </a:endParaRPr>
          </a:p>
          <a:p>
            <a:pPr marL="209520" indent="-20952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3e2f"/>
                </a:solidFill>
                <a:latin typeface="Corbel"/>
              </a:rPr>
              <a:t>                          </a:t>
            </a:r>
            <a:r>
              <a:rPr b="1" lang="ru-RU" sz="2800" spc="-1" strike="noStrike">
                <a:solidFill>
                  <a:srgbClr val="4d3e2f"/>
                </a:solidFill>
                <a:latin typeface="Corbel"/>
              </a:rPr>
              <a:t>(Из «Всемирной стратегии охраны природы»)</a:t>
            </a:r>
            <a:endParaRPr b="0" lang="en-US" sz="2800" spc="-1" strike="noStrike">
              <a:solidFill>
                <a:srgbClr val="4d3e2f"/>
              </a:solidFill>
              <a:latin typeface="Corbel"/>
            </a:endParaRPr>
          </a:p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27" name="Дата 3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28" name="Нижний колонтитул 4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29" name="Номер слайда 5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5465-623F-4B39-BC22-64229241BE0C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30" name="TextBox 6"/>
          <p:cNvSpPr/>
          <p:nvPr/>
        </p:nvSpPr>
        <p:spPr>
          <a:xfrm>
            <a:off x="8420040" y="914400"/>
            <a:ext cx="23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53659"/>
                </a:solidFill>
                <a:latin typeface="Arial"/>
              </a:rPr>
              <a:t>МУСОР</a:t>
            </a:r>
            <a:endParaRPr b="0" lang="en-US" sz="36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750680" y="1832040"/>
            <a:ext cx="484668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rbel"/>
              </a:rPr>
              <a:t>На этой земле жить тебе и мне! </a:t>
            </a:r>
            <a:endParaRPr b="0" lang="en-US" sz="7200" spc="-1" strike="noStrike">
              <a:solidFill>
                <a:srgbClr val="8baa00"/>
              </a:solidFill>
              <a:latin typeface="Corbel"/>
            </a:endParaRPr>
          </a:p>
        </p:txBody>
      </p:sp>
    </p:spTree>
  </p:cSld>
  <p:transition spd="med"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4d3e2f"/>
                </a:solidFill>
                <a:uFillTx/>
                <a:latin typeface="Corbel"/>
              </a:rPr>
              <a:t>Правила работы в группах</a:t>
            </a:r>
            <a:endParaRPr b="0" lang="en-US" sz="36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3e2f"/>
                </a:solidFill>
                <a:latin typeface="Corbel"/>
              </a:rPr>
              <a:t>Работайте вместе</a:t>
            </a:r>
            <a:endParaRPr b="0" lang="en-US" sz="4000" spc="-1" strike="noStrike">
              <a:solidFill>
                <a:srgbClr val="4d3e2f"/>
              </a:solidFill>
              <a:latin typeface="Corbel"/>
            </a:endParaRPr>
          </a:p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3e2f"/>
                </a:solidFill>
                <a:latin typeface="Corbel"/>
              </a:rPr>
              <a:t>Работайте тихо</a:t>
            </a:r>
            <a:endParaRPr b="0" lang="en-US" sz="4000" spc="-1" strike="noStrike">
              <a:solidFill>
                <a:srgbClr val="4d3e2f"/>
              </a:solidFill>
              <a:latin typeface="Corbel"/>
            </a:endParaRPr>
          </a:p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3e2f"/>
                </a:solidFill>
                <a:latin typeface="Corbel"/>
              </a:rPr>
              <a:t>Помогайте друг другу</a:t>
            </a:r>
            <a:endParaRPr b="0" lang="en-US" sz="4000" spc="-1" strike="noStrike">
              <a:solidFill>
                <a:srgbClr val="4d3e2f"/>
              </a:solidFill>
              <a:latin typeface="Corbel"/>
            </a:endParaRPr>
          </a:p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3e2f"/>
                </a:solidFill>
                <a:latin typeface="Corbel"/>
              </a:rPr>
              <a:t>Будьте вежливы </a:t>
            </a:r>
            <a:endParaRPr b="0" lang="en-US" sz="40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57" name="Дата 3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58" name="Нижний колонтитул 4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59" name="Номер слайда 5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0A61-EA6F-43B4-AE4E-56E65C0290B9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314000" y="982440"/>
            <a:ext cx="1005372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3e2f"/>
                </a:solidFill>
                <a:latin typeface="Corbel"/>
              </a:rPr>
              <a:t>« Самый  сильный в мире магнит -           …            .        Бросьте его в чистом месте и посмотрите, сколько всего к нему потянется»</a:t>
            </a:r>
            <a:endParaRPr b="0" lang="en-US" sz="3600" spc="-1" strike="noStrike">
              <a:solidFill>
                <a:srgbClr val="4d3e2f"/>
              </a:solidFill>
              <a:latin typeface="Corbel"/>
            </a:endParaRPr>
          </a:p>
          <a:p>
            <a:pPr marL="209520" indent="-20952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3e2f"/>
                </a:solidFill>
                <a:latin typeface="Corbel"/>
              </a:rPr>
              <a:t>                          </a:t>
            </a:r>
            <a:r>
              <a:rPr b="1" lang="ru-RU" sz="2800" spc="-1" strike="noStrike">
                <a:solidFill>
                  <a:srgbClr val="4d3e2f"/>
                </a:solidFill>
                <a:latin typeface="Corbel"/>
              </a:rPr>
              <a:t>(Из «Всемирной стратегии охраны природы»)</a:t>
            </a:r>
            <a:endParaRPr b="0" lang="en-US" sz="2800" spc="-1" strike="noStrike">
              <a:solidFill>
                <a:srgbClr val="4d3e2f"/>
              </a:solidFill>
              <a:latin typeface="Corbel"/>
            </a:endParaRPr>
          </a:p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61" name="Дата 3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62" name="Нижний колонтитул 4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63" name="Номер слайда 5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436D-5594-4CA8-A48E-69C20D903C0D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64" name="TextBox 6"/>
          <p:cNvSpPr/>
          <p:nvPr/>
        </p:nvSpPr>
        <p:spPr>
          <a:xfrm>
            <a:off x="8420040" y="914400"/>
            <a:ext cx="23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53659"/>
                </a:solidFill>
                <a:latin typeface="Arial"/>
              </a:rPr>
              <a:t>МУСОР</a:t>
            </a:r>
            <a:endParaRPr b="0" lang="en-US" sz="36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Содержимое 10" descr="havai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Дата 3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67" name="Нижний колонтитул 4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68" name="Номер слайда 5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47DB-245A-4F05-B011-08A331C4CD49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Shape 15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Дата 3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71" name="Нижний колонтитул 4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72" name="Номер слайда 5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BEC8-EF0E-4B43-A47E-044E5886CA71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8baa00"/>
              </a:solidFill>
              <a:latin typeface="Corbel"/>
            </a:endParaRPr>
          </a:p>
        </p:txBody>
      </p:sp>
      <p:pic>
        <p:nvPicPr>
          <p:cNvPr id="374" name="Содержимое 6" descr="Akkra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Дата 3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76" name="Нижний колонтитул 4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77" name="Номер слайда 5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3C8A-1A4C-4A00-A2AA-782213DC785C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Номер слайда 3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7C08-2688-4276-A10D-84BD0708C742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79" name="Дата 1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80" name="Нижний колонтитул 2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381" name="Picture 2" descr="Свалки Великобритании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Номер слайда 3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0D40-9DC5-4897-9133-20B4F5B81F5F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83" name="Дата 1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84" name="Нижний колонтитул 2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385" name="Picture 2" descr="Фреш Киллз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Номер слайда 3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ECA0-6F21-4E95-94DF-BCA8F32153E8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87" name="Дата 1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88" name="Нижний колонтитул 2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389" name="Picture 2" descr="Посёлок Саларьево, Россия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6T09:07:17Z</dcterms:created>
  <dc:creator/>
  <dc:description/>
  <dc:language>en-US</dc:language>
  <cp:lastModifiedBy/>
  <dcterms:modified xsi:type="dcterms:W3CDTF">2021-03-30T09:26:2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988899991</vt:lpwstr>
  </property>
</Properties>
</file>