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12193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d3e2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3e2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move the slide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d3e2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4A40-E1C3-4B43-B56E-66C190CED4A5}" type="slidenum">
              <a:rPr b="0" lang="ru-RU" sz="1200" spc="-1" strike="noStrike">
                <a:solidFill>
                  <a:srgbClr val="4d3e2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2BEA-4D0B-4271-B788-58A042DDFDFC}" type="slidenum">
              <a:rPr b="0" lang="ru-RU" sz="1200" spc="-1" strike="noStrike">
                <a:solidFill>
                  <a:srgbClr val="4d3e2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EDB3-7243-4C3B-8205-82A6EA6EBDE8}" type="slidenum">
              <a:rPr b="0" lang="ru-RU" sz="1200" spc="-1" strike="noStrike">
                <a:solidFill>
                  <a:srgbClr val="4d3e2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8748-625F-496A-B038-AF0A9591C2B9}" type="slidenum">
              <a:rPr b="0" lang="ru-RU" sz="1200" spc="-1" strike="noStrike">
                <a:solidFill>
                  <a:srgbClr val="4d3e2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3B5E-5675-47CC-81CE-58244A58CD1D}" type="slidenum">
              <a:rPr b="0" lang="ru-RU" sz="1200" spc="-1" strike="noStrike">
                <a:solidFill>
                  <a:srgbClr val="4d3e2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C873-40D4-4092-BEBE-623C8026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387D-2E0D-45E8-B3F4-DC388CBE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7837-3830-4205-9BE0-F499D02C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B882-54C7-473B-A0A5-AFBE9A6C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14B4C-A9FA-412F-9D55-88776C5A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A5FE1-6FDC-4274-A931-562F8E9E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E8ACF-0656-4E8C-A62E-D92D0673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871DD-6642-4548-802D-5870E5CB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6C0E2-A0A4-4DF4-88A2-BC09028B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5C22F-E0FD-4C2C-988B-F7A4679E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527C5-95CE-4A33-AA3A-EAEA4C55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6C9D-E37A-42A7-885E-B28FABA6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85594-CE53-47C6-B4E2-7D2E6BA9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21380-A5FD-4545-A085-C2FE6476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367A4-DB51-4455-BC60-58113578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51A89-02AB-4FF8-BEF5-3A362178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4B73B-1E51-46C7-B38A-608B31E0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CE12-2ED6-4FC4-8480-5AD2B673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EB357-C2A7-4372-B5AB-9862AC42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75F72-9A13-49DD-835E-48BB974C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A515-1504-411B-B18F-D412ED98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485A-621F-47D2-8E64-A14EF3FE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0E874-19B1-44AB-B365-D79192E6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E177F-9A8E-40D7-9B67-9F47501D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95E23-2D0C-4A36-9892-AA2326AA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0E5E-E08C-4327-8A61-7B159674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D6C11-0808-46E6-8E94-D2F413D5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332DB-7360-4716-9527-B97C4D76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DFDAB-EDAD-4687-9761-B1BA9348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97E40-E5EC-4658-9702-3246E2E4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ADB8-4EDF-4EE8-967A-74C3F772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AF87-481F-4EC1-B2A1-102D0EB5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3F50-9BCE-4FEB-8980-0C369899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C741-E917-46A3-B749-E13874F9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397BE-84DA-42F9-B84F-D73C85BF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3DF0D-0A32-4C7E-8310-2E5FA448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DB7B5-4ECC-430F-A9E3-FACE5352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83851-1CDD-4A3A-A202-1E5F1B6B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780C5-00EB-424F-802C-9C9BCE19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7F005-0D2D-4CFD-8F0C-30A1E366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D98F9-C552-4440-BE50-A7237813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EA86-04A3-4D68-9C9F-6314293F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BBE9D-362A-41C9-B970-F27D36D1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D0AFB-AD80-4A0B-AC84-FC0C560D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7BA55-F35C-42BE-92CA-1AADDEEA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C9BBD-BDA8-4C68-B786-0B0FF173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04410-55ED-4873-8C48-4B2F70C7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9C51-210C-4662-8526-8C254D13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1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0" y="6629040"/>
            <a:ext cx="411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6AD5-6275-4410-992E-6E7767E1AA9E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431280" y="6629040"/>
            <a:ext cx="100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163836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411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D635-75DF-47B6-81E6-92736AD32520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5"/>
          </p:nvPr>
        </p:nvSpPr>
        <p:spPr>
          <a:xfrm>
            <a:off x="431280" y="6629040"/>
            <a:ext cx="100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163836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8" descr="Кучевые белые облака на фоне синего неба"/>
          <p:cNvPicPr/>
          <p:nvPr/>
        </p:nvPicPr>
        <p:blipFill>
          <a:blip r:embed="rId2"/>
          <a:stretch/>
        </p:blipFill>
        <p:spPr>
          <a:xfrm>
            <a:off x="0" y="2057400"/>
            <a:ext cx="149076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1"/>
          <p:cNvSpPr/>
          <p:nvPr/>
        </p:nvSpPr>
        <p:spPr>
          <a:xfrm>
            <a:off x="1600200" y="0"/>
            <a:ext cx="5029200" cy="5943600"/>
          </a:xfrm>
          <a:prstGeom prst="rect">
            <a:avLst/>
          </a:prstGeom>
          <a:solidFill>
            <a:srgbClr val="8b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88" name="Рисунок 12" descr="Крупный план цветка"/>
          <p:cNvPicPr/>
          <p:nvPr/>
        </p:nvPicPr>
        <p:blipFill>
          <a:blip r:embed="rId3"/>
          <a:stretch/>
        </p:blipFill>
        <p:spPr>
          <a:xfrm>
            <a:off x="6738840" y="2057400"/>
            <a:ext cx="2060640" cy="38862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Волны"/>
          <p:cNvPicPr/>
          <p:nvPr/>
        </p:nvPicPr>
        <p:blipFill>
          <a:blip r:embed="rId4"/>
          <a:stretch/>
        </p:blipFill>
        <p:spPr>
          <a:xfrm>
            <a:off x="8908920" y="2057400"/>
            <a:ext cx="3283200" cy="3886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129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130" name="Содержимое 3" descr="photodune-1895990-green-grass-l.jpg"/>
          <p:cNvPicPr/>
          <p:nvPr/>
        </p:nvPicPr>
        <p:blipFill>
          <a:blip r:embed="rId2"/>
          <a:srcRect l="0" t="0" r="0" b="1562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Пятиугольник 11"/>
          <p:cNvSpPr/>
          <p:nvPr/>
        </p:nvSpPr>
        <p:spPr>
          <a:xfrm>
            <a:off x="0" y="457200"/>
            <a:ext cx="1008000" cy="4968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77" y="0"/>
                </a:lnTo>
                <a:lnTo>
                  <a:pt x="21600" y="10800"/>
                </a:lnTo>
                <a:lnTo>
                  <a:pt x="162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31280" y="6629040"/>
            <a:ext cx="100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163836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0" y="6629040"/>
            <a:ext cx="411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2924-15C1-400A-9632-53F1F60AE0C8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8"/>
          <p:cNvSpPr/>
          <p:nvPr/>
        </p:nvSpPr>
        <p:spPr>
          <a:xfrm>
            <a:off x="1600200" y="2058840"/>
            <a:ext cx="7199280" cy="3886200"/>
          </a:xfrm>
          <a:prstGeom prst="rect">
            <a:avLst/>
          </a:prstGeom>
          <a:solidFill>
            <a:srgbClr val="8b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174" name="Рисунок 11" descr="Волны"/>
          <p:cNvPicPr/>
          <p:nvPr/>
        </p:nvPicPr>
        <p:blipFill>
          <a:blip r:embed="rId2"/>
          <a:stretch/>
        </p:blipFill>
        <p:spPr>
          <a:xfrm>
            <a:off x="8908920" y="2058840"/>
            <a:ext cx="3283200" cy="38862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2" descr="Крупный план зеленых насаждений"/>
          <p:cNvPicPr/>
          <p:nvPr/>
        </p:nvPicPr>
        <p:blipFill>
          <a:blip r:embed="rId3"/>
          <a:stretch/>
        </p:blipFill>
        <p:spPr>
          <a:xfrm>
            <a:off x="0" y="2058840"/>
            <a:ext cx="1490760" cy="38862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216" name="Рисунок 8" descr="Кучевые белые облака на фоне синего неба"/>
          <p:cNvPicPr/>
          <p:nvPr/>
        </p:nvPicPr>
        <p:blipFill>
          <a:blip r:embed="rId2"/>
          <a:stretch/>
        </p:blipFill>
        <p:spPr>
          <a:xfrm>
            <a:off x="0" y="2057400"/>
            <a:ext cx="1490760" cy="388620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11"/>
          <p:cNvSpPr/>
          <p:nvPr/>
        </p:nvSpPr>
        <p:spPr>
          <a:xfrm>
            <a:off x="1600200" y="0"/>
            <a:ext cx="5029200" cy="5943600"/>
          </a:xfrm>
          <a:prstGeom prst="rect">
            <a:avLst/>
          </a:prstGeom>
          <a:solidFill>
            <a:srgbClr val="8b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218" name="Рисунок 12" descr="Крупный план цветка"/>
          <p:cNvPicPr/>
          <p:nvPr/>
        </p:nvPicPr>
        <p:blipFill>
          <a:blip r:embed="rId3"/>
          <a:stretch/>
        </p:blipFill>
        <p:spPr>
          <a:xfrm>
            <a:off x="6738840" y="2057400"/>
            <a:ext cx="2060640" cy="38862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3" descr="Волны"/>
          <p:cNvPicPr/>
          <p:nvPr/>
        </p:nvPicPr>
        <p:blipFill>
          <a:blip r:embed="rId4"/>
          <a:stretch/>
        </p:blipFill>
        <p:spPr>
          <a:xfrm>
            <a:off x="8908920" y="2057400"/>
            <a:ext cx="3283200" cy="3886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259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260" name="Picture 2" descr="D:\Экоурок\Материалы для урока\Логотип (растровый).jpg"/>
          <p:cNvPicPr/>
          <p:nvPr/>
        </p:nvPicPr>
        <p:blipFill>
          <a:blip r:embed="rId2"/>
          <a:stretch/>
        </p:blipFill>
        <p:spPr>
          <a:xfrm>
            <a:off x="9975960" y="0"/>
            <a:ext cx="1838160" cy="1300320"/>
          </a:xfrm>
          <a:prstGeom prst="rect">
            <a:avLst/>
          </a:prstGeom>
          <a:ln w="0">
            <a:noFill/>
          </a:ln>
        </p:spPr>
      </p:pic>
      <p:sp>
        <p:nvSpPr>
          <p:cNvPr id="261" name="Пятиугольник 11"/>
          <p:cNvSpPr/>
          <p:nvPr/>
        </p:nvSpPr>
        <p:spPr>
          <a:xfrm>
            <a:off x="0" y="457200"/>
            <a:ext cx="1008000" cy="4968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77" y="0"/>
                </a:lnTo>
                <a:lnTo>
                  <a:pt x="21600" y="10800"/>
                </a:lnTo>
                <a:lnTo>
                  <a:pt x="162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0"/>
          </p:nvPr>
        </p:nvSpPr>
        <p:spPr>
          <a:xfrm>
            <a:off x="431280" y="6629040"/>
            <a:ext cx="100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1"/>
          </p:nvPr>
        </p:nvSpPr>
        <p:spPr>
          <a:xfrm>
            <a:off x="163836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2"/>
          </p:nvPr>
        </p:nvSpPr>
        <p:spPr>
          <a:xfrm>
            <a:off x="0" y="6629040"/>
            <a:ext cx="411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7876-D152-4A27-9A23-BC7C5C4762CE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05" name="Прямоугольник 8"/>
          <p:cNvSpPr/>
          <p:nvPr/>
        </p:nvSpPr>
        <p:spPr>
          <a:xfrm>
            <a:off x="1600200" y="2058840"/>
            <a:ext cx="7199280" cy="3886200"/>
          </a:xfrm>
          <a:prstGeom prst="rect">
            <a:avLst/>
          </a:prstGeom>
          <a:solidFill>
            <a:srgbClr val="8b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306" name="Рисунок 11" descr="Волны"/>
          <p:cNvPicPr/>
          <p:nvPr/>
        </p:nvPicPr>
        <p:blipFill>
          <a:blip r:embed="rId2"/>
          <a:stretch/>
        </p:blipFill>
        <p:spPr>
          <a:xfrm>
            <a:off x="8908920" y="2058840"/>
            <a:ext cx="3283200" cy="388620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12" descr="Крупный план зеленых насаждений"/>
          <p:cNvPicPr/>
          <p:nvPr/>
        </p:nvPicPr>
        <p:blipFill>
          <a:blip r:embed="rId3"/>
          <a:stretch/>
        </p:blipFill>
        <p:spPr>
          <a:xfrm>
            <a:off x="0" y="2058840"/>
            <a:ext cx="1490760" cy="38862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55920" y="1832040"/>
            <a:ext cx="517176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rbel"/>
              </a:rPr>
              <a:t>«На этой земле жить тебе и мне!»</a:t>
            </a:r>
            <a:br>
              <a:rPr sz="72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( внеклассное мероприятие)</a:t>
            </a:r>
            <a:endParaRPr b="0" lang="en-US" sz="28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750680" y="5381640"/>
            <a:ext cx="484668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Гаврилова Ольга Геннадьевна, </a:t>
            </a:r>
            <a:endParaRPr b="0" lang="en-US" sz="1800" spc="-1" strike="noStrike">
              <a:solidFill>
                <a:srgbClr val="4d3e2f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читель химии МБОУ  «Пинежская СШ №117»</a:t>
            </a:r>
            <a:endParaRPr b="0" lang="en-US" sz="18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1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C85D-6725-4711-B3A9-8B938D73116E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1" name="Дата 2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2" name="Нижний колонтитул 3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393" name="Picture 2" descr="http://i.mycdn.me/i?r=AzEPZsRbOZEKgBhR0XGMT1Rkm6b1iguUGx-LN5SveMLDCKaKTM5SRkZCeTgDn6uOyic"/>
          <p:cNvPicPr/>
          <p:nvPr/>
        </p:nvPicPr>
        <p:blipFill>
          <a:blip r:embed="rId1"/>
          <a:stretch/>
        </p:blipFill>
        <p:spPr>
          <a:xfrm>
            <a:off x="0" y="0"/>
            <a:ext cx="12192120" cy="691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50680" y="1832040"/>
            <a:ext cx="484668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rbel"/>
              </a:rPr>
              <a:t>На этой земле жить тебе и мне! </a:t>
            </a:r>
            <a:endParaRPr b="0" lang="en-US" sz="72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ая выноска 25"/>
          <p:cNvSpPr/>
          <p:nvPr/>
        </p:nvSpPr>
        <p:spPr>
          <a:xfrm>
            <a:off x="0" y="0"/>
            <a:ext cx="2347920" cy="3726000"/>
          </a:xfrm>
          <a:prstGeom prst="wedgeRectCallout">
            <a:avLst>
              <a:gd name="adj1" fmla="val 63601"/>
              <a:gd name="adj2" fmla="val -19365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Сколько времени разлагается бытовой мусор? 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6" name="Прямоугольная выноска 27"/>
          <p:cNvSpPr/>
          <p:nvPr/>
        </p:nvSpPr>
        <p:spPr>
          <a:xfrm>
            <a:off x="7972560" y="609480"/>
            <a:ext cx="2141280" cy="1451160"/>
          </a:xfrm>
          <a:prstGeom prst="wedgeRectCallout">
            <a:avLst>
              <a:gd name="adj1" fmla="val 69611"/>
              <a:gd name="adj2" fmla="val -22120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от 2 до 10 лет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7" name="Прямоугольная выноска 28"/>
          <p:cNvSpPr/>
          <p:nvPr/>
        </p:nvSpPr>
        <p:spPr>
          <a:xfrm>
            <a:off x="5245200" y="2263680"/>
            <a:ext cx="2143080" cy="1451160"/>
          </a:xfrm>
          <a:prstGeom prst="wedgeRectCallout">
            <a:avLst>
              <a:gd name="adj1" fmla="val 67703"/>
              <a:gd name="adj2" fmla="val 19259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500 лет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8" name="Прямоугольная выноска 29"/>
          <p:cNvSpPr/>
          <p:nvPr/>
        </p:nvSpPr>
        <p:spPr>
          <a:xfrm>
            <a:off x="2681280" y="2252520"/>
            <a:ext cx="2143080" cy="1451160"/>
          </a:xfrm>
          <a:prstGeom prst="wedgeRectCallout">
            <a:avLst>
              <a:gd name="adj1" fmla="val 69611"/>
              <a:gd name="adj2" fmla="val 19259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100 лет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9" name="Прямоугольная выноска 30"/>
          <p:cNvSpPr/>
          <p:nvPr/>
        </p:nvSpPr>
        <p:spPr>
          <a:xfrm>
            <a:off x="2695680" y="547560"/>
            <a:ext cx="2143080" cy="1451160"/>
          </a:xfrm>
          <a:prstGeom prst="wedgeRectCallout">
            <a:avLst>
              <a:gd name="adj1" fmla="val 67703"/>
              <a:gd name="adj2" fmla="val -20240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2-5 недель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0" name="Прямоугольная выноска 32"/>
          <p:cNvSpPr/>
          <p:nvPr/>
        </p:nvSpPr>
        <p:spPr>
          <a:xfrm>
            <a:off x="5356080" y="592200"/>
            <a:ext cx="2143440" cy="1450800"/>
          </a:xfrm>
          <a:prstGeom prst="wedgeRectCallout">
            <a:avLst>
              <a:gd name="adj1" fmla="val 68337"/>
              <a:gd name="adj2" fmla="val -18361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1 год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1" name="Прямоугольная выноска 9"/>
          <p:cNvSpPr/>
          <p:nvPr/>
        </p:nvSpPr>
        <p:spPr>
          <a:xfrm>
            <a:off x="7989840" y="2320920"/>
            <a:ext cx="2143080" cy="1451160"/>
          </a:xfrm>
          <a:prstGeom prst="wedgeRectCallout">
            <a:avLst>
              <a:gd name="adj1" fmla="val 67703"/>
              <a:gd name="adj2" fmla="val 19259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более 1000 лет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ая выноска 25"/>
          <p:cNvSpPr/>
          <p:nvPr/>
        </p:nvSpPr>
        <p:spPr>
          <a:xfrm>
            <a:off x="0" y="0"/>
            <a:ext cx="2347920" cy="3726000"/>
          </a:xfrm>
          <a:prstGeom prst="wedgeRectCallout">
            <a:avLst>
              <a:gd name="adj1" fmla="val 63601"/>
              <a:gd name="adj2" fmla="val -19365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Сколько времени разлагается бытовой мусор? 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3" name="Прямоугольная выноска 26"/>
          <p:cNvSpPr/>
          <p:nvPr/>
        </p:nvSpPr>
        <p:spPr>
          <a:xfrm>
            <a:off x="2770200" y="4081320"/>
            <a:ext cx="6837480" cy="2606760"/>
          </a:xfrm>
          <a:prstGeom prst="wedgeRectCallout">
            <a:avLst>
              <a:gd name="adj1" fmla="val 56287"/>
              <a:gd name="adj2" fmla="val -21194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На каждого жителя страны приходится более 400 кг мусора в год.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Общая численность населения 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п.Пинега на 2020 год составляет приблизительно 3,5 тысяч человек.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???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4" name="Прямоугольная выноска 27"/>
          <p:cNvSpPr/>
          <p:nvPr/>
        </p:nvSpPr>
        <p:spPr>
          <a:xfrm>
            <a:off x="7972560" y="609480"/>
            <a:ext cx="2141280" cy="1451160"/>
          </a:xfrm>
          <a:prstGeom prst="wedgeRectCallout">
            <a:avLst>
              <a:gd name="adj1" fmla="val 69611"/>
              <a:gd name="adj2" fmla="val -22120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БУМАГА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от 2 до 10 лет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5" name="Прямоугольная выноска 28"/>
          <p:cNvSpPr/>
          <p:nvPr/>
        </p:nvSpPr>
        <p:spPr>
          <a:xfrm>
            <a:off x="5245200" y="2263680"/>
            <a:ext cx="2143080" cy="1451160"/>
          </a:xfrm>
          <a:prstGeom prst="wedgeRectCallout">
            <a:avLst>
              <a:gd name="adj1" fmla="val 67703"/>
              <a:gd name="adj2" fmla="val 19259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ПЛАСТИКОВАЯ БУТЫЛКА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500 лет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6" name="Прямоугольная выноска 29"/>
          <p:cNvSpPr/>
          <p:nvPr/>
        </p:nvSpPr>
        <p:spPr>
          <a:xfrm>
            <a:off x="2681280" y="2252520"/>
            <a:ext cx="2143080" cy="1451160"/>
          </a:xfrm>
          <a:prstGeom prst="wedgeRectCallout">
            <a:avLst>
              <a:gd name="adj1" fmla="val 69611"/>
              <a:gd name="adj2" fmla="val 19259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ЖЕСТЯНАЯ БАНКА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100 лет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7" name="Прямоугольная выноска 30"/>
          <p:cNvSpPr/>
          <p:nvPr/>
        </p:nvSpPr>
        <p:spPr>
          <a:xfrm>
            <a:off x="2695680" y="547560"/>
            <a:ext cx="2143080" cy="1451160"/>
          </a:xfrm>
          <a:prstGeom prst="wedgeRectCallout">
            <a:avLst>
              <a:gd name="adj1" fmla="val 67703"/>
              <a:gd name="adj2" fmla="val -20240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ПИЩЕВЫЕ ОТХОДЫ 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2-5 недель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8" name="Прямоугольная выноска 31"/>
          <p:cNvSpPr/>
          <p:nvPr/>
        </p:nvSpPr>
        <p:spPr>
          <a:xfrm>
            <a:off x="7783560" y="2281320"/>
            <a:ext cx="2143080" cy="1450800"/>
          </a:xfrm>
          <a:prstGeom prst="wedgeRectCallout">
            <a:avLst>
              <a:gd name="adj1" fmla="val -19560"/>
              <a:gd name="adj2" fmla="val 72861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СТЕКЛО 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более 1000 лет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9" name="Прямоугольная выноска 32"/>
          <p:cNvSpPr/>
          <p:nvPr/>
        </p:nvSpPr>
        <p:spPr>
          <a:xfrm>
            <a:off x="5356080" y="592200"/>
            <a:ext cx="2143440" cy="1450800"/>
          </a:xfrm>
          <a:prstGeom prst="wedgeRectCallout">
            <a:avLst>
              <a:gd name="adj1" fmla="val 68337"/>
              <a:gd name="adj2" fmla="val -18361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ШЕРСТЯНОЙ НОСОК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1 год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50720" y="290160"/>
            <a:ext cx="9372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baa00"/>
                </a:solidFill>
                <a:latin typeface="Corbel"/>
              </a:rPr>
              <a:t>Описание проекта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pic>
        <p:nvPicPr>
          <p:cNvPr id="411" name="Содержимое 3" descr="photodune-1895990-green-grass-l.jpg"/>
          <p:cNvPicPr/>
          <p:nvPr/>
        </p:nvPicPr>
        <p:blipFill>
          <a:blip r:embed="rId1"/>
          <a:srcRect l="0" t="0" r="0" b="1562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ая выноска 4"/>
          <p:cNvSpPr/>
          <p:nvPr/>
        </p:nvSpPr>
        <p:spPr>
          <a:xfrm>
            <a:off x="0" y="0"/>
            <a:ext cx="3535200" cy="1473120"/>
          </a:xfrm>
          <a:prstGeom prst="wedgeRectCallout">
            <a:avLst>
              <a:gd name="adj1" fmla="val 25620"/>
              <a:gd name="adj2" fmla="val 39453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eiryo"/>
              </a:rPr>
              <a:t>Что делать </a:t>
            </a:r>
            <a:endParaRPr b="0" lang="en-US" sz="3200" spc="-1" strike="noStrike">
              <a:solidFill>
                <a:srgbClr val="4d3e2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eiryo"/>
              </a:rPr>
              <a:t>с отходами? </a:t>
            </a:r>
            <a:endParaRPr b="0" lang="en-US" sz="32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413" name="Схема 5" descr=""/>
          <p:cNvPicPr/>
          <p:nvPr/>
        </p:nvPicPr>
        <p:blipFill>
          <a:blip r:embed="rId2"/>
          <a:stretch/>
        </p:blipFill>
        <p:spPr>
          <a:xfrm>
            <a:off x="560520" y="1835280"/>
            <a:ext cx="10856880" cy="323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409400" y="1564920"/>
            <a:ext cx="9372600" cy="4621320"/>
          </a:xfrm>
          <a:prstGeom prst="rect">
            <a:avLst/>
          </a:prstGeom>
          <a:ln w="0">
            <a:noFill/>
          </a:ln>
        </p:spPr>
      </p:pic>
      <p:sp>
        <p:nvSpPr>
          <p:cNvPr id="416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17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18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F661-F7C5-4642-BF98-C0B268ADB4B4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419" name="Picture 2" descr="169906_900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8142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102498_900.jpg"/>
          <p:cNvPicPr/>
          <p:nvPr/>
        </p:nvPicPr>
        <p:blipFill>
          <a:blip r:embed="rId3"/>
          <a:stretch/>
        </p:blipFill>
        <p:spPr>
          <a:xfrm>
            <a:off x="0" y="-368280"/>
            <a:ext cx="12192120" cy="812808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ая выноска 8"/>
          <p:cNvSpPr/>
          <p:nvPr/>
        </p:nvSpPr>
        <p:spPr>
          <a:xfrm>
            <a:off x="5049720" y="4408560"/>
            <a:ext cx="2433600" cy="2627280"/>
          </a:xfrm>
          <a:prstGeom prst="wedgeRectCallout">
            <a:avLst>
              <a:gd name="adj1" fmla="val 49902"/>
              <a:gd name="adj2" fmla="val -6555"/>
            </a:avLst>
          </a:prstGeom>
          <a:solidFill>
            <a:srgbClr val="ffc0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e2f"/>
                </a:solidFill>
                <a:latin typeface="Meiryo"/>
              </a:rPr>
              <a:t>Готовы ли вы сортировать бытовой 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e2f"/>
                </a:solidFill>
                <a:latin typeface="Meiryo"/>
              </a:rPr>
              <a:t>мусор?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e2f"/>
                </a:solidFill>
                <a:latin typeface="Meiryo"/>
              </a:rPr>
              <a:t> 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50720" y="290160"/>
            <a:ext cx="9372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baa00"/>
                </a:solidFill>
                <a:latin typeface="Corbel"/>
              </a:rPr>
              <a:t>Описание проекта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pic>
        <p:nvPicPr>
          <p:cNvPr id="423" name="Содержимое 3" descr="photodune-1895990-green-grass-l.jpg"/>
          <p:cNvPicPr/>
          <p:nvPr/>
        </p:nvPicPr>
        <p:blipFill>
          <a:blip r:embed="rId1"/>
          <a:srcRect l="0" t="0" r="0" b="1562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ая выноска 4"/>
          <p:cNvSpPr/>
          <p:nvPr/>
        </p:nvSpPr>
        <p:spPr>
          <a:xfrm>
            <a:off x="0" y="0"/>
            <a:ext cx="12192120" cy="777960"/>
          </a:xfrm>
          <a:prstGeom prst="wedgeRectCallout">
            <a:avLst>
              <a:gd name="adj1" fmla="val 25620"/>
              <a:gd name="adj2" fmla="val 49981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eiryo"/>
              </a:rPr>
              <a:t>Комплексный подход к обращению с отходами</a:t>
            </a:r>
            <a:endParaRPr b="0" lang="en-US" sz="32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425" name="Схема 5" descr=""/>
          <p:cNvPicPr/>
          <p:nvPr/>
        </p:nvPicPr>
        <p:blipFill>
          <a:blip r:embed="rId2"/>
          <a:stretch/>
        </p:blipFill>
        <p:spPr>
          <a:xfrm>
            <a:off x="914400" y="1285920"/>
            <a:ext cx="10558440" cy="448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314000" y="982440"/>
            <a:ext cx="1005372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3e2f"/>
                </a:solidFill>
                <a:latin typeface="Corbel"/>
              </a:rPr>
              <a:t>« Самый  сильный в мире магнит -           …            .        Бросьте его в чистом месте и посмотрите, сколько всего к нему потянется»</a:t>
            </a:r>
            <a:endParaRPr b="0" lang="en-US" sz="36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3e2f"/>
                </a:solidFill>
                <a:latin typeface="Corbel"/>
              </a:rPr>
              <a:t>                          </a:t>
            </a:r>
            <a:r>
              <a:rPr b="1" lang="ru-RU" sz="2800" spc="-1" strike="noStrike">
                <a:solidFill>
                  <a:srgbClr val="4d3e2f"/>
                </a:solidFill>
                <a:latin typeface="Corbel"/>
              </a:rPr>
              <a:t>(Из «Всемирной стратегии охраны природы»)</a:t>
            </a:r>
            <a:endParaRPr b="0" lang="en-US" sz="28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27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29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4327-B704-4079-8B20-89FC858D6A1F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8420040" y="91440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3659"/>
                </a:solidFill>
                <a:latin typeface="Arial"/>
              </a:rPr>
              <a:t>МУСОР</a:t>
            </a:r>
            <a:endParaRPr b="0" lang="en-US" sz="36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50680" y="1832040"/>
            <a:ext cx="484668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rbel"/>
              </a:rPr>
              <a:t>На этой земле жить тебе и мне! </a:t>
            </a:r>
            <a:endParaRPr b="0" lang="en-US" sz="72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  <p:transition spd="med"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d3e2f"/>
                </a:solidFill>
                <a:uFillTx/>
                <a:latin typeface="Corbel"/>
              </a:rPr>
              <a:t>Правила работы в группах</a:t>
            </a:r>
            <a:endParaRPr b="0" lang="en-US" sz="36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3e2f"/>
                </a:solidFill>
                <a:latin typeface="Corbel"/>
              </a:rPr>
              <a:t>Работайте вместе</a:t>
            </a:r>
            <a:endParaRPr b="0" lang="en-US" sz="40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3e2f"/>
                </a:solidFill>
                <a:latin typeface="Corbel"/>
              </a:rPr>
              <a:t>Работайте тихо</a:t>
            </a:r>
            <a:endParaRPr b="0" lang="en-US" sz="40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3e2f"/>
                </a:solidFill>
                <a:latin typeface="Corbel"/>
              </a:rPr>
              <a:t>Помогайте друг другу</a:t>
            </a:r>
            <a:endParaRPr b="0" lang="en-US" sz="40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3e2f"/>
                </a:solidFill>
                <a:latin typeface="Corbel"/>
              </a:rPr>
              <a:t>Будьте вежливы </a:t>
            </a:r>
            <a:endParaRPr b="0" lang="en-US" sz="40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57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58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59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65BD-1E38-4145-A04D-D0B3641201EA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314000" y="982440"/>
            <a:ext cx="1005372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3e2f"/>
                </a:solidFill>
                <a:latin typeface="Corbel"/>
              </a:rPr>
              <a:t>« Самый  сильный в мире магнит -           …            .        Бросьте его в чистом месте и посмотрите, сколько всего к нему потянется»</a:t>
            </a:r>
            <a:endParaRPr b="0" lang="en-US" sz="36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3e2f"/>
                </a:solidFill>
                <a:latin typeface="Corbel"/>
              </a:rPr>
              <a:t>                          </a:t>
            </a:r>
            <a:r>
              <a:rPr b="1" lang="ru-RU" sz="2800" spc="-1" strike="noStrike">
                <a:solidFill>
                  <a:srgbClr val="4d3e2f"/>
                </a:solidFill>
                <a:latin typeface="Corbel"/>
              </a:rPr>
              <a:t>(Из «Всемирной стратегии охраны природы»)</a:t>
            </a:r>
            <a:endParaRPr b="0" lang="en-US" sz="28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61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62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63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E650-39B1-4524-85A3-3A87F2222C1C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8420040" y="91440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3659"/>
                </a:solidFill>
                <a:latin typeface="Arial"/>
              </a:rPr>
              <a:t>МУСОР</a:t>
            </a:r>
            <a:endParaRPr b="0" lang="en-US" sz="36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Содержимое 10" descr="havai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67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68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DE7B-5E43-49FE-A682-D554BEF7795A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Shape 15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71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72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5FEE-C63B-4F4B-9C23-121029F19E87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8baa00"/>
              </a:solidFill>
              <a:latin typeface="Corbel"/>
            </a:endParaRPr>
          </a:p>
        </p:txBody>
      </p:sp>
      <p:pic>
        <p:nvPicPr>
          <p:cNvPr id="374" name="Содержимое 6" descr="Akkra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76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77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5719-69B9-4B14-B2B0-357211EF3767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3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4D76-D19F-40D7-8E88-8AB18300F2F0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79" name="Дата 1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80" name="Нижний колонтитул 2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381" name="Picture 2" descr="Свалки Великобритании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Номер слайда 3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2B2F-782D-43F1-8C72-F650DC78C3A4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83" name="Дата 1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84" name="Нижний колонтитул 2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385" name="Picture 2" descr="Фреш Киллз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омер слайда 3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6042-7450-441B-9050-DBD02F70EC62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87" name="Дата 1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88" name="Нижний колонтитул 2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389" name="Picture 2" descr="Посёлок Саларьево, Россия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6T09:07:17Z</dcterms:created>
  <dc:creator/>
  <dc:description/>
  <dc:language>en-US</dc:language>
  <cp:lastModifiedBy/>
  <dcterms:modified xsi:type="dcterms:W3CDTF">2021-03-30T09:26:2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988899991</vt:lpwstr>
  </property>
</Properties>
</file>