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F84-6F34-48A1-AEBE-386D16F8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DD3-CDA3-42A6-B1DE-9FBD8E08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DC9-B863-4059-91BD-D63E7A75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CB3-507B-4A84-BF7C-91CD02BF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112-C395-470C-AA04-27BC3037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024-7325-4051-A13D-3D66A990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AE6-C90D-4DAF-B86B-017167E0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AFD-A3A7-4F9D-9AC2-0B6A3A2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93E-D9B4-438B-A7A2-EECA8DDB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F01-75BA-443C-99CD-7DC6604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CD5-4DCC-4755-8AC5-0C48926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316-1E85-4F2D-A76B-44C38B05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E011-4792-4C3A-81C4-41DE38D88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лосем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43" name="Рисунок 3" descr="C:\Program Files\Physicon\Open Biology 2.5\content\chapter4\section3\paragraph5\images\04030502.jpg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осеме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растения, которые образуют семена, но не формируют цветков и плодов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емена лежат открыто на поверхности чешуек шиш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700 видов;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 наибольшая продолжительность жизни - до 3 - 4,5 тыс. л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megabook.ru/MObjects2/data/pict2001/e01032.jpg"/>
          <p:cNvPicPr/>
          <p:nvPr/>
        </p:nvPicPr>
        <p:blipFill>
          <a:blip r:embed="rId1"/>
          <a:stretch/>
        </p:blipFill>
        <p:spPr>
          <a:xfrm>
            <a:off x="395280" y="100080"/>
            <a:ext cx="22194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www.megabook.ru/MObjects2/data/pict2004/biology/biol147.jpg"/>
          <p:cNvPicPr/>
          <p:nvPr/>
        </p:nvPicPr>
        <p:blipFill>
          <a:blip r:embed="rId2"/>
          <a:stretch/>
        </p:blipFill>
        <p:spPr>
          <a:xfrm>
            <a:off x="6056280" y="93600"/>
            <a:ext cx="29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Ребяты\Мои документы\Мои рисунки\Рисунок1.jpg"/>
          <p:cNvPicPr/>
          <p:nvPr/>
        </p:nvPicPr>
        <p:blipFill>
          <a:blip r:embed="rId3"/>
          <a:stretch/>
        </p:blipFill>
        <p:spPr>
          <a:xfrm>
            <a:off x="2987640" y="342900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987640" y="692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сновый бор"/>
          <p:cNvPicPr/>
          <p:nvPr/>
        </p:nvPicPr>
        <p:blipFill>
          <a:blip r:embed="rId1"/>
          <a:stretch/>
        </p:blipFill>
        <p:spPr>
          <a:xfrm>
            <a:off x="179280" y="404640"/>
            <a:ext cx="8867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rtsait.ru/art/sh/shishkin/img/43.jpg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00000" y="117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ная раб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троение хвои и шишек голосеменных расте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268280"/>
          <a:ext cx="8497800" cy="3764160"/>
        </p:xfrm>
        <a:graphic>
          <a:graphicData uri="http://schemas.openxmlformats.org/drawingml/2006/table">
            <a:tbl>
              <a:tblPr/>
              <a:tblGrid>
                <a:gridCol w="1290600"/>
                <a:gridCol w="857160"/>
                <a:gridCol w="1509840"/>
                <a:gridCol w="1508040"/>
                <a:gridCol w="919080"/>
                <a:gridCol w="1062360"/>
                <a:gridCol w="1350720"/>
              </a:tblGrid>
              <a:tr h="62712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на в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чешу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900000" y="544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: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41128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эти растения относят к голосеме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770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тельная характеристика ели и сос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765000"/>
          <a:ext cx="7495920" cy="5329440"/>
        </p:xfrm>
        <a:graphic>
          <a:graphicData uri="http://schemas.openxmlformats.org/drawingml/2006/table">
            <a:tbl>
              <a:tblPr/>
              <a:tblGrid>
                <a:gridCol w="2263680"/>
                <a:gridCol w="2616120"/>
                <a:gridCol w="2616120"/>
              </a:tblGrid>
              <a:tr h="863640"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 сибир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поч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хвоинок на ве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хвои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826920" y="105264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 свою активность на уро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! » - отвечал(а) по своей инициатив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?» - отвечал (а) по просьбе учител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0» - не отвечал (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68360" y="226440"/>
            <a:ext cx="82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еле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мне было всё понятно, я не испытывал(а) затруднений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Жёлтый 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у меня возникли некоторые трудности 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ас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 я не понял(а) материал урока и  не смог(ла) справиться с некоторыми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0:15Z</dcterms:created>
  <dc:creator>Живоглазова </dc:creator>
  <dc:description/>
  <dc:language>en-US</dc:language>
  <cp:lastModifiedBy>Admin</cp:lastModifiedBy>
  <dcterms:modified xsi:type="dcterms:W3CDTF">2014-04-15T04:56:35Z</dcterms:modified>
  <cp:revision>52</cp:revision>
  <dc:subject/>
  <dc:title> Презентация по биологии –  Отдел Голосеменные растения</dc:title>
</cp:coreProperties>
</file>