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CE4F-F667-48D7-9941-79C0445AC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4D7C-F076-439A-9408-E3A2CD24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D4E3-CB40-4D97-B97A-C0FDFBD82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B86A-9869-4919-816F-1AFA9390D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7460-39BA-410D-B192-75CC0E39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9AE9-838F-4A6C-A56D-B7061AA8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F0A9-1D95-4AD3-A8F8-AEF23176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72A2-5A83-44F6-B0DC-24CEDEFC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0AC7-C1DB-4824-96A7-8C5ED400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BA85-013D-4AB7-9A5C-336A265F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4A70-35F0-4729-8CFB-C1D67823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17A9-0CDE-4AAF-AE4E-04897881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E6DB-9D4C-455E-9274-D5993FBB71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640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Голосеменные раст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1844280"/>
            <a:ext cx="828036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77933c"/>
              </a:solidFill>
              <a:latin typeface="Calibri"/>
            </a:endParaRPr>
          </a:p>
        </p:txBody>
      </p:sp>
      <p:pic>
        <p:nvPicPr>
          <p:cNvPr id="43" name="Рисунок 3" descr="C:\Program Files\Physicon\Open Biology 2.5\content\chapter4\section3\paragraph5\images\04030502.jpg"/>
          <p:cNvPicPr/>
          <p:nvPr/>
        </p:nvPicPr>
        <p:blipFill>
          <a:blip r:embed="rId1"/>
          <a:stretch/>
        </p:blipFill>
        <p:spPr>
          <a:xfrm>
            <a:off x="611280" y="1916280"/>
            <a:ext cx="806436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324000" y="260280"/>
            <a:ext cx="856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олосемен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это растения, которые образуют семена, но не формируют цветков и плодов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семена лежат открыто на поверхности чешуек шишек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оло 700 видов;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рактерна наибольшая продолжительность жизни - до 3 - 4,5 тыс. лет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http://www.megabook.ru/MObjects2/data/pict2001/e01032.jpg"/>
          <p:cNvPicPr/>
          <p:nvPr/>
        </p:nvPicPr>
        <p:blipFill>
          <a:blip r:embed="rId1"/>
          <a:stretch/>
        </p:blipFill>
        <p:spPr>
          <a:xfrm>
            <a:off x="395280" y="100080"/>
            <a:ext cx="221940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ttp://www.megabook.ru/MObjects2/data/pict2004/biology/biol147.jpg"/>
          <p:cNvPicPr/>
          <p:nvPr/>
        </p:nvPicPr>
        <p:blipFill>
          <a:blip r:embed="rId2"/>
          <a:stretch/>
        </p:blipFill>
        <p:spPr>
          <a:xfrm>
            <a:off x="6056280" y="93600"/>
            <a:ext cx="2924280" cy="3429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Documents and Settings\Ребяты\Мои документы\Мои рисунки\Рисунок1.jpg"/>
          <p:cNvPicPr/>
          <p:nvPr/>
        </p:nvPicPr>
        <p:blipFill>
          <a:blip r:embed="rId3"/>
          <a:stretch/>
        </p:blipFill>
        <p:spPr>
          <a:xfrm>
            <a:off x="2987640" y="3429000"/>
            <a:ext cx="2905200" cy="30481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5"/>
          <p:cNvSpPr/>
          <p:nvPr/>
        </p:nvSpPr>
        <p:spPr>
          <a:xfrm>
            <a:off x="2987640" y="6922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Хвойн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Сосновый бор"/>
          <p:cNvPicPr/>
          <p:nvPr/>
        </p:nvPicPr>
        <p:blipFill>
          <a:blip r:embed="rId1"/>
          <a:stretch/>
        </p:blipFill>
        <p:spPr>
          <a:xfrm>
            <a:off x="179280" y="404640"/>
            <a:ext cx="8867880" cy="63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www.artsait.ru/art/sh/shishkin/img/43.jpg"/>
          <p:cNvPicPr/>
          <p:nvPr/>
        </p:nvPicPr>
        <p:blipFill>
          <a:blip r:embed="rId1"/>
          <a:stretch/>
        </p:blipFill>
        <p:spPr>
          <a:xfrm>
            <a:off x="684360" y="765000"/>
            <a:ext cx="79200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900000" y="117360"/>
            <a:ext cx="777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Лабораторная работа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«Строение хвои и шишек голосеменных растений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95280" y="1268280"/>
          <a:ext cx="8497800" cy="3764160"/>
        </p:xfrm>
        <a:graphic>
          <a:graphicData uri="http://schemas.openxmlformats.org/drawingml/2006/table">
            <a:tbl>
              <a:tblPr/>
              <a:tblGrid>
                <a:gridCol w="1290600"/>
                <a:gridCol w="857160"/>
                <a:gridCol w="1509840"/>
                <a:gridCol w="1508040"/>
                <a:gridCol w="919080"/>
                <a:gridCol w="1062360"/>
                <a:gridCol w="1350720"/>
              </a:tblGrid>
              <a:tr h="627120">
                <a:tc rowSpan="2"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раст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о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ш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а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ение на вет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чешу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т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а обыкнове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вен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Прямоугольник 5"/>
          <p:cNvSpPr/>
          <p:nvPr/>
        </p:nvSpPr>
        <p:spPr>
          <a:xfrm>
            <a:off x="900000" y="544500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вод: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7"/>
          <p:cNvSpPr/>
          <p:nvPr/>
        </p:nvSpPr>
        <p:spPr>
          <a:xfrm>
            <a:off x="2411280" y="5445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эти растения относят к голосеменным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1258920" y="7704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равнительная характеристика ели и сос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11280" y="765000"/>
          <a:ext cx="7495920" cy="5329440"/>
        </p:xfrm>
        <a:graphic>
          <a:graphicData uri="http://schemas.openxmlformats.org/drawingml/2006/table">
            <a:tbl>
              <a:tblPr/>
              <a:tblGrid>
                <a:gridCol w="2263680"/>
                <a:gridCol w="2616120"/>
                <a:gridCol w="2616120"/>
              </a:tblGrid>
              <a:tr h="863640">
                <a:tc>
                  <a:txBody>
                    <a:bodyPr lIns="53640" rIns="53640" tIns="53640" bIns="53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срав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ь сибир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а обыкновен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 почв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 све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кро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корневой сист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ение хвоинок на вет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 жизни хвоин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 жизни раст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2"/>
          <p:cNvSpPr/>
          <p:nvPr/>
        </p:nvSpPr>
        <p:spPr>
          <a:xfrm>
            <a:off x="826920" y="1052640"/>
            <a:ext cx="7632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цените  свою активность на урок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! » - отвечал(а) по своей инициативе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?» - отвечал (а) по просьбе учителя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0» - не отвечал (а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468360" y="226440"/>
            <a:ext cx="82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Зеленый ша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мне было всё понятно, я не испытывал(а) затруднений при выполнении задани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Жёлтый  ша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 у меня возникли некоторые трудности  при выполнении задани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Красный ша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  я не понял(а) материал урока и  не смог(ла) справиться с некоторыми задани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09:50:15Z</dcterms:created>
  <dc:creator>Живоглазова </dc:creator>
  <dc:description/>
  <dc:language>en-US</dc:language>
  <cp:lastModifiedBy>Admin</cp:lastModifiedBy>
  <dcterms:modified xsi:type="dcterms:W3CDTF">2014-04-15T04:56:35Z</dcterms:modified>
  <cp:revision>52</cp:revision>
  <dc:subject/>
  <dc:title> Презентация по биологии –  Отдел Голосеменные растения</dc:title>
</cp:coreProperties>
</file>